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9D8-1C8D-44BA-967F-63C1A65C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711-1E55-4B3D-B223-1C20C986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549-97C1-4F50-9205-8D6ECDCB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3F4-E591-4A17-9413-2A47CD65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F8A-0775-41A4-93E7-D998CA3D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7C2-751F-4863-9466-254280B8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563-2627-444A-8EF2-22C57C92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F2E-3065-4642-9F53-B4F2EDE2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F0D-EC7E-48F3-8A88-AD9A5EA2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039-A0B2-46F2-AE59-9993523D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F1D-25F2-4B99-A976-85FA9A4C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E4E-D550-4378-92B7-5A872EBC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5FBB-6A97-4E27-839E-7294B4791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  MSA Review Day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8: Statistics and 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create and interpret frequency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ketball team has 4 main positions: Point guard (pg), guard (g), Forward (f) and center (c). There were 20 girls who tried out, they played the following posi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, g, pg, f, f, g, g, g, g, f, c, f, c, c, g, f, f, c, g, 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44920" y="3963960"/>
            <a:ext cx="911160" cy="250920"/>
          </a:xfrm>
          <a:custGeom>
            <a:avLst/>
            <a:gdLst/>
            <a:ahLst/>
            <a:rect l="l" t="t" r="r" b="b"/>
            <a:pathLst>
              <a:path w="2532" h="696">
                <a:moveTo>
                  <a:pt x="9996" y="11584"/>
                </a:moveTo>
                <a:cubicBezTo>
                  <a:pt x="10016" y="11661"/>
                  <a:pt x="10008" y="11679"/>
                  <a:pt x="10046" y="11708"/>
                </a:cubicBezTo>
              </a:path>
              <a:path w="2532" h="696">
                <a:moveTo>
                  <a:pt x="9847" y="11261"/>
                </a:moveTo>
                <a:cubicBezTo>
                  <a:pt x="9864" y="11261"/>
                  <a:pt x="9880" y="11261"/>
                  <a:pt x="9897" y="11261"/>
                </a:cubicBezTo>
              </a:path>
              <a:path w="2532" h="696">
                <a:moveTo>
                  <a:pt x="9897" y="11261"/>
                </a:moveTo>
                <a:lnTo>
                  <a:pt x="9897" y="11261"/>
                </a:lnTo>
              </a:path>
              <a:path w="2532" h="696">
                <a:moveTo>
                  <a:pt x="10740" y="11013"/>
                </a:moveTo>
                <a:cubicBezTo>
                  <a:pt x="10876" y="11179"/>
                  <a:pt x="10902" y="11398"/>
                  <a:pt x="10964" y="11609"/>
                </a:cubicBezTo>
                <a:cubicBezTo>
                  <a:pt x="10972" y="11625"/>
                  <a:pt x="10980" y="11642"/>
                  <a:pt x="10988" y="11658"/>
                </a:cubicBezTo>
              </a:path>
              <a:path w="2532" h="696">
                <a:moveTo>
                  <a:pt x="12254" y="11112"/>
                </a:moveTo>
                <a:cubicBezTo>
                  <a:pt x="12284" y="11267"/>
                  <a:pt x="12349" y="11422"/>
                  <a:pt x="12378" y="11584"/>
                </a:cubicBezTo>
                <a:cubicBezTo>
                  <a:pt x="12378" y="11609"/>
                  <a:pt x="12378" y="11617"/>
                  <a:pt x="12353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95800" y="3956040"/>
            <a:ext cx="214200" cy="295200"/>
          </a:xfrm>
          <a:custGeom>
            <a:avLst/>
            <a:gdLst/>
            <a:ahLst/>
            <a:rect l="l" t="t" r="r" b="b"/>
            <a:pathLst>
              <a:path w="596" h="820">
                <a:moveTo>
                  <a:pt x="9723" y="11162"/>
                </a:moveTo>
                <a:cubicBezTo>
                  <a:pt x="9644" y="11042"/>
                  <a:pt x="9559" y="10962"/>
                  <a:pt x="9401" y="10988"/>
                </a:cubicBezTo>
                <a:cubicBezTo>
                  <a:pt x="9091" y="11039"/>
                  <a:pt x="9057" y="11492"/>
                  <a:pt x="9227" y="11708"/>
                </a:cubicBezTo>
                <a:cubicBezTo>
                  <a:pt x="9429" y="11965"/>
                  <a:pt x="9666" y="11732"/>
                  <a:pt x="9748" y="11559"/>
                </a:cubicBezTo>
                <a:cubicBezTo>
                  <a:pt x="9643" y="11476"/>
                  <a:pt x="9343" y="11446"/>
                  <a:pt x="9351" y="11708"/>
                </a:cubicBezTo>
                <a:cubicBezTo>
                  <a:pt x="9376" y="11733"/>
                  <a:pt x="9401" y="11757"/>
                  <a:pt x="9426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2120" y="3929040"/>
            <a:ext cx="1733760" cy="393840"/>
          </a:xfrm>
          <a:custGeom>
            <a:avLst/>
            <a:gdLst/>
            <a:ahLst/>
            <a:rect l="l" t="t" r="r" b="b"/>
            <a:pathLst>
              <a:path w="4813" h="1092">
                <a:moveTo>
                  <a:pt x="10368" y="11633"/>
                </a:moveTo>
                <a:cubicBezTo>
                  <a:pt x="10398" y="11648"/>
                  <a:pt x="10357" y="11457"/>
                  <a:pt x="10393" y="11361"/>
                </a:cubicBezTo>
                <a:cubicBezTo>
                  <a:pt x="10433" y="11255"/>
                  <a:pt x="10500" y="11269"/>
                  <a:pt x="10592" y="11261"/>
                </a:cubicBezTo>
              </a:path>
              <a:path w="4813" h="1092">
                <a:moveTo>
                  <a:pt x="11137" y="11162"/>
                </a:moveTo>
                <a:cubicBezTo>
                  <a:pt x="11075" y="11225"/>
                  <a:pt x="11058" y="11235"/>
                  <a:pt x="11038" y="11286"/>
                </a:cubicBezTo>
                <a:cubicBezTo>
                  <a:pt x="11118" y="11357"/>
                  <a:pt x="11380" y="11387"/>
                  <a:pt x="11385" y="11534"/>
                </a:cubicBezTo>
                <a:cubicBezTo>
                  <a:pt x="11390" y="11685"/>
                  <a:pt x="11176" y="11637"/>
                  <a:pt x="11112" y="11633"/>
                </a:cubicBezTo>
              </a:path>
              <a:path w="4813" h="1092">
                <a:moveTo>
                  <a:pt x="11782" y="11137"/>
                </a:moveTo>
                <a:cubicBezTo>
                  <a:pt x="12016" y="11119"/>
                  <a:pt x="12246" y="11064"/>
                  <a:pt x="12477" y="11038"/>
                </a:cubicBezTo>
                <a:cubicBezTo>
                  <a:pt x="12574" y="11027"/>
                  <a:pt x="12621" y="11004"/>
                  <a:pt x="12700" y="11038"/>
                </a:cubicBezTo>
              </a:path>
              <a:path w="4813" h="1092">
                <a:moveTo>
                  <a:pt x="12898" y="11286"/>
                </a:moveTo>
                <a:cubicBezTo>
                  <a:pt x="12898" y="11369"/>
                  <a:pt x="12900" y="11432"/>
                  <a:pt x="12923" y="11509"/>
                </a:cubicBezTo>
                <a:cubicBezTo>
                  <a:pt x="12892" y="11432"/>
                  <a:pt x="12845" y="11301"/>
                  <a:pt x="12923" y="11212"/>
                </a:cubicBezTo>
                <a:cubicBezTo>
                  <a:pt x="12974" y="11153"/>
                  <a:pt x="13103" y="11187"/>
                  <a:pt x="13146" y="11237"/>
                </a:cubicBezTo>
                <a:cubicBezTo>
                  <a:pt x="13205" y="11305"/>
                  <a:pt x="13211" y="11511"/>
                  <a:pt x="13246" y="11609"/>
                </a:cubicBezTo>
                <a:cubicBezTo>
                  <a:pt x="13428" y="11517"/>
                  <a:pt x="13419" y="11434"/>
                  <a:pt x="13395" y="11237"/>
                </a:cubicBezTo>
                <a:cubicBezTo>
                  <a:pt x="13395" y="11245"/>
                  <a:pt x="13395" y="11253"/>
                  <a:pt x="13395" y="11261"/>
                </a:cubicBezTo>
                <a:cubicBezTo>
                  <a:pt x="13447" y="11488"/>
                  <a:pt x="13572" y="11799"/>
                  <a:pt x="13320" y="11956"/>
                </a:cubicBezTo>
                <a:cubicBezTo>
                  <a:pt x="13163" y="12000"/>
                  <a:pt x="13123" y="12020"/>
                  <a:pt x="13022" y="11981"/>
                </a:cubicBezTo>
              </a:path>
              <a:path w="4813" h="1092">
                <a:moveTo>
                  <a:pt x="13593" y="11013"/>
                </a:moveTo>
                <a:cubicBezTo>
                  <a:pt x="13520" y="11166"/>
                  <a:pt x="13339" y="11551"/>
                  <a:pt x="13692" y="11509"/>
                </a:cubicBezTo>
                <a:cubicBezTo>
                  <a:pt x="13990" y="11474"/>
                  <a:pt x="13908" y="11118"/>
                  <a:pt x="13717" y="11013"/>
                </a:cubicBezTo>
                <a:cubicBezTo>
                  <a:pt x="13626" y="10995"/>
                  <a:pt x="13619" y="10986"/>
                  <a:pt x="13568" y="10988"/>
                </a:cubicBezTo>
              </a:path>
              <a:path w="4813" h="1092">
                <a:moveTo>
                  <a:pt x="14015" y="11162"/>
                </a:moveTo>
                <a:cubicBezTo>
                  <a:pt x="14026" y="11205"/>
                  <a:pt x="14115" y="11614"/>
                  <a:pt x="14238" y="11485"/>
                </a:cubicBezTo>
                <a:cubicBezTo>
                  <a:pt x="14297" y="11367"/>
                  <a:pt x="14314" y="11313"/>
                  <a:pt x="14288" y="11212"/>
                </a:cubicBezTo>
                <a:cubicBezTo>
                  <a:pt x="14192" y="11162"/>
                  <a:pt x="14352" y="11457"/>
                  <a:pt x="14486" y="11460"/>
                </a:cubicBezTo>
                <a:cubicBezTo>
                  <a:pt x="14602" y="11402"/>
                  <a:pt x="14643" y="11368"/>
                  <a:pt x="14660" y="11261"/>
                </a:cubicBezTo>
              </a:path>
              <a:path w="4813" h="1092">
                <a:moveTo>
                  <a:pt x="14610" y="10914"/>
                </a:moveTo>
                <a:cubicBezTo>
                  <a:pt x="14656" y="11124"/>
                  <a:pt x="14691" y="11356"/>
                  <a:pt x="14759" y="11559"/>
                </a:cubicBezTo>
                <a:cubicBezTo>
                  <a:pt x="14767" y="11567"/>
                  <a:pt x="14776" y="11576"/>
                  <a:pt x="14784" y="11584"/>
                </a:cubicBezTo>
              </a:path>
              <a:path w="4813" h="1092">
                <a:moveTo>
                  <a:pt x="14412" y="11187"/>
                </a:moveTo>
                <a:cubicBezTo>
                  <a:pt x="14643" y="11160"/>
                  <a:pt x="14875" y="11127"/>
                  <a:pt x="15106" y="11112"/>
                </a:cubicBezTo>
                <a:cubicBezTo>
                  <a:pt x="15047" y="11132"/>
                  <a:pt x="14938" y="11181"/>
                  <a:pt x="14908" y="11212"/>
                </a:cubicBezTo>
                <a:cubicBezTo>
                  <a:pt x="14985" y="11240"/>
                  <a:pt x="15268" y="11315"/>
                  <a:pt x="15180" y="11460"/>
                </a:cubicBezTo>
                <a:cubicBezTo>
                  <a:pt x="15091" y="11606"/>
                  <a:pt x="14949" y="11538"/>
                  <a:pt x="14833" y="11509"/>
                </a:cubicBezTo>
              </a:path>
              <a:path w="4813" h="1092">
                <a:moveTo>
                  <a:pt x="10939" y="11013"/>
                </a:moveTo>
                <a:cubicBezTo>
                  <a:pt x="10939" y="10988"/>
                  <a:pt x="10939" y="10964"/>
                  <a:pt x="10939" y="10939"/>
                </a:cubicBezTo>
                <a:cubicBezTo>
                  <a:pt x="10977" y="10986"/>
                  <a:pt x="10981" y="11004"/>
                  <a:pt x="10988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960" y="4197240"/>
            <a:ext cx="5303880" cy="1866960"/>
          </a:xfrm>
          <a:custGeom>
            <a:avLst/>
            <a:gdLst/>
            <a:ahLst/>
            <a:rect l="l" t="t" r="r" b="b"/>
            <a:pathLst>
              <a:path w="14735" h="5185">
                <a:moveTo>
                  <a:pt x="6052" y="14784"/>
                </a:moveTo>
                <a:cubicBezTo>
                  <a:pt x="6093" y="14780"/>
                  <a:pt x="6110" y="14761"/>
                  <a:pt x="6152" y="14759"/>
                </a:cubicBezTo>
                <a:cubicBezTo>
                  <a:pt x="6328" y="14750"/>
                  <a:pt x="6503" y="14777"/>
                  <a:pt x="6672" y="14784"/>
                </a:cubicBezTo>
                <a:cubicBezTo>
                  <a:pt x="6814" y="14790"/>
                  <a:pt x="6955" y="14802"/>
                  <a:pt x="7094" y="14808"/>
                </a:cubicBezTo>
                <a:cubicBezTo>
                  <a:pt x="7723" y="14834"/>
                  <a:pt x="8351" y="14784"/>
                  <a:pt x="8979" y="14784"/>
                </a:cubicBezTo>
                <a:cubicBezTo>
                  <a:pt x="9702" y="14784"/>
                  <a:pt x="10421" y="14773"/>
                  <a:pt x="11137" y="14734"/>
                </a:cubicBezTo>
                <a:cubicBezTo>
                  <a:pt x="11279" y="14726"/>
                  <a:pt x="11419" y="14729"/>
                  <a:pt x="11559" y="14709"/>
                </a:cubicBezTo>
                <a:cubicBezTo>
                  <a:pt x="11872" y="14664"/>
                  <a:pt x="12188" y="14578"/>
                  <a:pt x="12502" y="14560"/>
                </a:cubicBezTo>
                <a:cubicBezTo>
                  <a:pt x="12726" y="14547"/>
                  <a:pt x="12948" y="14558"/>
                  <a:pt x="13171" y="14536"/>
                </a:cubicBezTo>
                <a:cubicBezTo>
                  <a:pt x="13444" y="14509"/>
                  <a:pt x="13717" y="14504"/>
                  <a:pt x="13990" y="14486"/>
                </a:cubicBezTo>
                <a:cubicBezTo>
                  <a:pt x="14198" y="14472"/>
                  <a:pt x="14402" y="14457"/>
                  <a:pt x="14610" y="14436"/>
                </a:cubicBezTo>
                <a:cubicBezTo>
                  <a:pt x="14805" y="14416"/>
                  <a:pt x="15012" y="14416"/>
                  <a:pt x="15205" y="14387"/>
                </a:cubicBezTo>
                <a:cubicBezTo>
                  <a:pt x="15316" y="14370"/>
                  <a:pt x="15414" y="14343"/>
                  <a:pt x="15528" y="14337"/>
                </a:cubicBezTo>
                <a:cubicBezTo>
                  <a:pt x="15794" y="14322"/>
                  <a:pt x="16058" y="14342"/>
                  <a:pt x="16321" y="14312"/>
                </a:cubicBezTo>
                <a:cubicBezTo>
                  <a:pt x="16391" y="14304"/>
                  <a:pt x="16573" y="14293"/>
                  <a:pt x="16619" y="14238"/>
                </a:cubicBezTo>
                <a:cubicBezTo>
                  <a:pt x="16642" y="14211"/>
                  <a:pt x="16775" y="14278"/>
                  <a:pt x="16495" y="14238"/>
                </a:cubicBezTo>
              </a:path>
              <a:path w="14735" h="5185">
                <a:moveTo>
                  <a:pt x="6003" y="15900"/>
                </a:moveTo>
                <a:cubicBezTo>
                  <a:pt x="6006" y="15900"/>
                  <a:pt x="6164" y="15902"/>
                  <a:pt x="6201" y="15900"/>
                </a:cubicBezTo>
                <a:cubicBezTo>
                  <a:pt x="6403" y="15891"/>
                  <a:pt x="6624" y="15874"/>
                  <a:pt x="6821" y="15850"/>
                </a:cubicBezTo>
                <a:cubicBezTo>
                  <a:pt x="6869" y="15844"/>
                  <a:pt x="6974" y="15835"/>
                  <a:pt x="7045" y="15825"/>
                </a:cubicBezTo>
                <a:cubicBezTo>
                  <a:pt x="7135" y="15812"/>
                  <a:pt x="7227" y="15812"/>
                  <a:pt x="7317" y="15801"/>
                </a:cubicBezTo>
                <a:cubicBezTo>
                  <a:pt x="7413" y="15789"/>
                  <a:pt x="7513" y="15784"/>
                  <a:pt x="7615" y="15776"/>
                </a:cubicBezTo>
                <a:cubicBezTo>
                  <a:pt x="7716" y="15768"/>
                  <a:pt x="7809" y="15753"/>
                  <a:pt x="7913" y="15751"/>
                </a:cubicBezTo>
                <a:cubicBezTo>
                  <a:pt x="8691" y="15739"/>
                  <a:pt x="9470" y="15769"/>
                  <a:pt x="10244" y="15701"/>
                </a:cubicBezTo>
                <a:cubicBezTo>
                  <a:pt x="10540" y="15675"/>
                  <a:pt x="10840" y="15642"/>
                  <a:pt x="11137" y="15627"/>
                </a:cubicBezTo>
                <a:cubicBezTo>
                  <a:pt x="11330" y="15618"/>
                  <a:pt x="11517" y="15622"/>
                  <a:pt x="11708" y="15602"/>
                </a:cubicBezTo>
                <a:cubicBezTo>
                  <a:pt x="11842" y="15588"/>
                  <a:pt x="11967" y="15579"/>
                  <a:pt x="12105" y="15577"/>
                </a:cubicBezTo>
                <a:cubicBezTo>
                  <a:pt x="12338" y="15574"/>
                  <a:pt x="12567" y="15555"/>
                  <a:pt x="12799" y="15553"/>
                </a:cubicBezTo>
                <a:cubicBezTo>
                  <a:pt x="13066" y="15550"/>
                  <a:pt x="13328" y="15532"/>
                  <a:pt x="13593" y="15528"/>
                </a:cubicBezTo>
                <a:cubicBezTo>
                  <a:pt x="13818" y="15525"/>
                  <a:pt x="14039" y="15518"/>
                  <a:pt x="14263" y="15503"/>
                </a:cubicBezTo>
                <a:cubicBezTo>
                  <a:pt x="14469" y="15489"/>
                  <a:pt x="14677" y="15494"/>
                  <a:pt x="14883" y="15478"/>
                </a:cubicBezTo>
                <a:cubicBezTo>
                  <a:pt x="15090" y="15462"/>
                  <a:pt x="15296" y="15415"/>
                  <a:pt x="15503" y="15404"/>
                </a:cubicBezTo>
                <a:cubicBezTo>
                  <a:pt x="15766" y="15390"/>
                  <a:pt x="16045" y="15436"/>
                  <a:pt x="16297" y="15429"/>
                </a:cubicBezTo>
                <a:cubicBezTo>
                  <a:pt x="16396" y="15426"/>
                  <a:pt x="16519" y="15384"/>
                  <a:pt x="16619" y="15379"/>
                </a:cubicBezTo>
                <a:cubicBezTo>
                  <a:pt x="16660" y="15377"/>
                  <a:pt x="16702" y="15383"/>
                  <a:pt x="16743" y="15379"/>
                </a:cubicBezTo>
              </a:path>
              <a:path w="14735" h="5185">
                <a:moveTo>
                  <a:pt x="6152" y="16842"/>
                </a:moveTo>
                <a:cubicBezTo>
                  <a:pt x="6227" y="16834"/>
                  <a:pt x="6250" y="16822"/>
                  <a:pt x="6325" y="16818"/>
                </a:cubicBezTo>
                <a:cubicBezTo>
                  <a:pt x="6439" y="16812"/>
                  <a:pt x="6537" y="16839"/>
                  <a:pt x="6648" y="16842"/>
                </a:cubicBezTo>
                <a:cubicBezTo>
                  <a:pt x="6777" y="16845"/>
                  <a:pt x="6936" y="16842"/>
                  <a:pt x="7045" y="16842"/>
                </a:cubicBezTo>
                <a:cubicBezTo>
                  <a:pt x="7253" y="16842"/>
                  <a:pt x="7462" y="16826"/>
                  <a:pt x="7665" y="16818"/>
                </a:cubicBezTo>
                <a:cubicBezTo>
                  <a:pt x="7793" y="16813"/>
                  <a:pt x="7912" y="16807"/>
                  <a:pt x="8037" y="16793"/>
                </a:cubicBezTo>
                <a:cubicBezTo>
                  <a:pt x="8153" y="16780"/>
                  <a:pt x="8269" y="16758"/>
                  <a:pt x="8384" y="16743"/>
                </a:cubicBezTo>
                <a:cubicBezTo>
                  <a:pt x="8505" y="16727"/>
                  <a:pt x="8633" y="16708"/>
                  <a:pt x="8756" y="16694"/>
                </a:cubicBezTo>
                <a:cubicBezTo>
                  <a:pt x="8855" y="16682"/>
                  <a:pt x="8956" y="16674"/>
                  <a:pt x="9054" y="16669"/>
                </a:cubicBezTo>
                <a:cubicBezTo>
                  <a:pt x="9286" y="16657"/>
                  <a:pt x="9516" y="16660"/>
                  <a:pt x="9748" y="16644"/>
                </a:cubicBezTo>
                <a:cubicBezTo>
                  <a:pt x="9979" y="16628"/>
                  <a:pt x="10210" y="16603"/>
                  <a:pt x="10443" y="16594"/>
                </a:cubicBezTo>
                <a:cubicBezTo>
                  <a:pt x="10624" y="16587"/>
                  <a:pt x="10807" y="16584"/>
                  <a:pt x="10988" y="16570"/>
                </a:cubicBezTo>
                <a:cubicBezTo>
                  <a:pt x="11122" y="16560"/>
                  <a:pt x="11249" y="16547"/>
                  <a:pt x="11385" y="16545"/>
                </a:cubicBezTo>
                <a:cubicBezTo>
                  <a:pt x="12264" y="16534"/>
                  <a:pt x="13142" y="16532"/>
                  <a:pt x="14015" y="16495"/>
                </a:cubicBezTo>
                <a:cubicBezTo>
                  <a:pt x="14241" y="16485"/>
                  <a:pt x="14460" y="16512"/>
                  <a:pt x="14684" y="16520"/>
                </a:cubicBezTo>
                <a:cubicBezTo>
                  <a:pt x="14907" y="16528"/>
                  <a:pt x="15137" y="16536"/>
                  <a:pt x="15354" y="16545"/>
                </a:cubicBezTo>
                <a:cubicBezTo>
                  <a:pt x="15674" y="16558"/>
                  <a:pt x="16009" y="16556"/>
                  <a:pt x="16321" y="16570"/>
                </a:cubicBezTo>
                <a:cubicBezTo>
                  <a:pt x="16444" y="16576"/>
                  <a:pt x="16556" y="16554"/>
                  <a:pt x="16669" y="16545"/>
                </a:cubicBezTo>
                <a:cubicBezTo>
                  <a:pt x="16694" y="16545"/>
                  <a:pt x="16702" y="16545"/>
                  <a:pt x="16718" y="16545"/>
                </a:cubicBezTo>
              </a:path>
              <a:path w="14735" h="5185">
                <a:moveTo>
                  <a:pt x="2654" y="11658"/>
                </a:moveTo>
                <a:cubicBezTo>
                  <a:pt x="2696" y="11783"/>
                  <a:pt x="2493" y="12120"/>
                  <a:pt x="2431" y="12229"/>
                </a:cubicBezTo>
                <a:cubicBezTo>
                  <a:pt x="2308" y="12447"/>
                  <a:pt x="2153" y="12660"/>
                  <a:pt x="2034" y="12874"/>
                </a:cubicBezTo>
                <a:cubicBezTo>
                  <a:pt x="2009" y="12874"/>
                  <a:pt x="2001" y="12874"/>
                  <a:pt x="2034" y="12874"/>
                </a:cubicBezTo>
              </a:path>
              <a:path w="14735" h="5185">
                <a:moveTo>
                  <a:pt x="3969" y="11832"/>
                </a:moveTo>
                <a:cubicBezTo>
                  <a:pt x="3821" y="12111"/>
                  <a:pt x="3711" y="12414"/>
                  <a:pt x="3572" y="12700"/>
                </a:cubicBezTo>
                <a:cubicBezTo>
                  <a:pt x="3543" y="12760"/>
                  <a:pt x="3399" y="12940"/>
                  <a:pt x="3522" y="12898"/>
                </a:cubicBezTo>
              </a:path>
              <a:path w="14735" h="5185">
                <a:moveTo>
                  <a:pt x="5457" y="11658"/>
                </a:moveTo>
                <a:cubicBezTo>
                  <a:pt x="5197" y="11919"/>
                  <a:pt x="4973" y="12230"/>
                  <a:pt x="4713" y="12502"/>
                </a:cubicBezTo>
                <a:cubicBezTo>
                  <a:pt x="4596" y="12624"/>
                  <a:pt x="4489" y="12715"/>
                  <a:pt x="4366" y="12824"/>
                </a:cubicBezTo>
              </a:path>
              <a:path w="14735" h="5185">
                <a:moveTo>
                  <a:pt x="3870" y="13122"/>
                </a:moveTo>
                <a:cubicBezTo>
                  <a:pt x="3701" y="13307"/>
                  <a:pt x="3603" y="13548"/>
                  <a:pt x="3448" y="13767"/>
                </a:cubicBezTo>
                <a:cubicBezTo>
                  <a:pt x="3342" y="13916"/>
                  <a:pt x="3216" y="14055"/>
                  <a:pt x="3101" y="14188"/>
                </a:cubicBezTo>
                <a:cubicBezTo>
                  <a:pt x="3053" y="14244"/>
                  <a:pt x="3088" y="14212"/>
                  <a:pt x="3101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2800" y="4098960"/>
            <a:ext cx="874440" cy="492120"/>
          </a:xfrm>
          <a:custGeom>
            <a:avLst/>
            <a:gdLst/>
            <a:ahLst/>
            <a:rect l="l" t="t" r="r" b="b"/>
            <a:pathLst>
              <a:path w="2432" h="1366">
                <a:moveTo>
                  <a:pt x="6648" y="11410"/>
                </a:moveTo>
                <a:cubicBezTo>
                  <a:pt x="6590" y="11601"/>
                  <a:pt x="6521" y="11777"/>
                  <a:pt x="6424" y="11956"/>
                </a:cubicBezTo>
                <a:cubicBezTo>
                  <a:pt x="6325" y="12137"/>
                  <a:pt x="6029" y="12389"/>
                  <a:pt x="5978" y="12576"/>
                </a:cubicBezTo>
                <a:cubicBezTo>
                  <a:pt x="5986" y="12576"/>
                  <a:pt x="5995" y="12576"/>
                  <a:pt x="6003" y="12576"/>
                </a:cubicBezTo>
              </a:path>
              <a:path w="2432" h="1366">
                <a:moveTo>
                  <a:pt x="7466" y="11385"/>
                </a:moveTo>
                <a:cubicBezTo>
                  <a:pt x="7386" y="11610"/>
                  <a:pt x="7312" y="11859"/>
                  <a:pt x="7218" y="12080"/>
                </a:cubicBezTo>
                <a:cubicBezTo>
                  <a:pt x="7184" y="12160"/>
                  <a:pt x="6922" y="12520"/>
                  <a:pt x="6921" y="12601"/>
                </a:cubicBezTo>
                <a:cubicBezTo>
                  <a:pt x="6929" y="12609"/>
                  <a:pt x="6937" y="12618"/>
                  <a:pt x="6945" y="12626"/>
                </a:cubicBezTo>
              </a:path>
              <a:path w="2432" h="1366">
                <a:moveTo>
                  <a:pt x="8409" y="11708"/>
                </a:moveTo>
                <a:cubicBezTo>
                  <a:pt x="8344" y="11903"/>
                  <a:pt x="8200" y="12154"/>
                  <a:pt x="8086" y="12328"/>
                </a:cubicBezTo>
                <a:cubicBezTo>
                  <a:pt x="7989" y="12476"/>
                  <a:pt x="7877" y="12597"/>
                  <a:pt x="7789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2920" y="4964040"/>
            <a:ext cx="465120" cy="1339920"/>
          </a:xfrm>
          <a:custGeom>
            <a:avLst/>
            <a:gdLst/>
            <a:ahLst/>
            <a:rect l="l" t="t" r="r" b="b"/>
            <a:pathLst>
              <a:path w="1291" h="3722">
                <a:moveTo>
                  <a:pt x="7243" y="13915"/>
                </a:moveTo>
                <a:cubicBezTo>
                  <a:pt x="7243" y="13849"/>
                  <a:pt x="7258" y="13998"/>
                  <a:pt x="7268" y="14064"/>
                </a:cubicBezTo>
                <a:cubicBezTo>
                  <a:pt x="7289" y="14195"/>
                  <a:pt x="7317" y="14328"/>
                  <a:pt x="7317" y="14461"/>
                </a:cubicBezTo>
              </a:path>
              <a:path w="1291" h="3722">
                <a:moveTo>
                  <a:pt x="6896" y="13866"/>
                </a:moveTo>
                <a:cubicBezTo>
                  <a:pt x="7113" y="13807"/>
                  <a:pt x="7425" y="13707"/>
                  <a:pt x="7590" y="13940"/>
                </a:cubicBezTo>
                <a:cubicBezTo>
                  <a:pt x="7590" y="13973"/>
                  <a:pt x="7590" y="14006"/>
                  <a:pt x="7590" y="14039"/>
                </a:cubicBezTo>
                <a:cubicBezTo>
                  <a:pt x="7470" y="14172"/>
                  <a:pt x="7375" y="14180"/>
                  <a:pt x="7193" y="14188"/>
                </a:cubicBezTo>
                <a:cubicBezTo>
                  <a:pt x="7185" y="14188"/>
                  <a:pt x="7177" y="14188"/>
                  <a:pt x="7169" y="14188"/>
                </a:cubicBezTo>
              </a:path>
              <a:path w="1291" h="3722">
                <a:moveTo>
                  <a:pt x="8037" y="13915"/>
                </a:moveTo>
                <a:cubicBezTo>
                  <a:pt x="7942" y="13897"/>
                  <a:pt x="7878" y="13882"/>
                  <a:pt x="7813" y="13990"/>
                </a:cubicBezTo>
                <a:cubicBezTo>
                  <a:pt x="7740" y="14112"/>
                  <a:pt x="7614" y="14490"/>
                  <a:pt x="7863" y="14536"/>
                </a:cubicBezTo>
                <a:cubicBezTo>
                  <a:pt x="8031" y="14567"/>
                  <a:pt x="8098" y="14467"/>
                  <a:pt x="8186" y="14362"/>
                </a:cubicBezTo>
                <a:cubicBezTo>
                  <a:pt x="8036" y="14198"/>
                  <a:pt x="7950" y="14269"/>
                  <a:pt x="7739" y="14312"/>
                </a:cubicBezTo>
              </a:path>
              <a:path w="1291" h="3722">
                <a:moveTo>
                  <a:pt x="7590" y="15007"/>
                </a:moveTo>
                <a:cubicBezTo>
                  <a:pt x="7632" y="14944"/>
                  <a:pt x="7491" y="14954"/>
                  <a:pt x="7441" y="14982"/>
                </a:cubicBezTo>
                <a:cubicBezTo>
                  <a:pt x="7214" y="15110"/>
                  <a:pt x="7159" y="15433"/>
                  <a:pt x="7342" y="15627"/>
                </a:cubicBezTo>
                <a:cubicBezTo>
                  <a:pt x="7505" y="15799"/>
                  <a:pt x="7696" y="15579"/>
                  <a:pt x="7764" y="15453"/>
                </a:cubicBezTo>
                <a:cubicBezTo>
                  <a:pt x="7604" y="15324"/>
                  <a:pt x="7521" y="15395"/>
                  <a:pt x="7367" y="15528"/>
                </a:cubicBezTo>
                <a:cubicBezTo>
                  <a:pt x="7327" y="15568"/>
                  <a:pt x="7340" y="15576"/>
                  <a:pt x="7441" y="15553"/>
                </a:cubicBezTo>
              </a:path>
              <a:path w="1291" h="3722">
                <a:moveTo>
                  <a:pt x="7392" y="16073"/>
                </a:moveTo>
                <a:cubicBezTo>
                  <a:pt x="7409" y="16223"/>
                  <a:pt x="7424" y="16371"/>
                  <a:pt x="7441" y="16520"/>
                </a:cubicBezTo>
                <a:cubicBezTo>
                  <a:pt x="7441" y="16545"/>
                  <a:pt x="7441" y="16553"/>
                  <a:pt x="7441" y="16520"/>
                </a:cubicBezTo>
                <a:cubicBezTo>
                  <a:pt x="7372" y="16371"/>
                  <a:pt x="7354" y="16213"/>
                  <a:pt x="7317" y="16049"/>
                </a:cubicBezTo>
                <a:cubicBezTo>
                  <a:pt x="7435" y="16032"/>
                  <a:pt x="7521" y="16045"/>
                  <a:pt x="7640" y="16049"/>
                </a:cubicBezTo>
                <a:cubicBezTo>
                  <a:pt x="7681" y="16050"/>
                  <a:pt x="7723" y="16049"/>
                  <a:pt x="7764" y="16049"/>
                </a:cubicBezTo>
              </a:path>
              <a:path w="1291" h="3722">
                <a:moveTo>
                  <a:pt x="7417" y="16321"/>
                </a:moveTo>
                <a:cubicBezTo>
                  <a:pt x="7534" y="16313"/>
                  <a:pt x="7646" y="16297"/>
                  <a:pt x="7764" y="16297"/>
                </a:cubicBezTo>
              </a:path>
              <a:path w="1291" h="3722">
                <a:moveTo>
                  <a:pt x="7689" y="16966"/>
                </a:moveTo>
                <a:cubicBezTo>
                  <a:pt x="7704" y="16966"/>
                  <a:pt x="7669" y="16961"/>
                  <a:pt x="7615" y="16892"/>
                </a:cubicBezTo>
                <a:cubicBezTo>
                  <a:pt x="7440" y="16950"/>
                  <a:pt x="7357" y="17123"/>
                  <a:pt x="7342" y="17314"/>
                </a:cubicBezTo>
                <a:cubicBezTo>
                  <a:pt x="7323" y="17554"/>
                  <a:pt x="7577" y="17539"/>
                  <a:pt x="7739" y="17487"/>
                </a:cubicBezTo>
                <a:cubicBezTo>
                  <a:pt x="7762" y="17464"/>
                  <a:pt x="7766" y="17456"/>
                  <a:pt x="7789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0200" y="4660920"/>
            <a:ext cx="1509840" cy="169920"/>
          </a:xfrm>
          <a:custGeom>
            <a:avLst/>
            <a:gdLst/>
            <a:ahLst/>
            <a:rect l="l" t="t" r="r" b="b"/>
            <a:pathLst>
              <a:path w="4193" h="472">
                <a:moveTo>
                  <a:pt x="6945" y="13295"/>
                </a:moveTo>
                <a:cubicBezTo>
                  <a:pt x="7113" y="13283"/>
                  <a:pt x="7190" y="13254"/>
                  <a:pt x="7317" y="13146"/>
                </a:cubicBezTo>
              </a:path>
              <a:path w="4193" h="472">
                <a:moveTo>
                  <a:pt x="8905" y="13146"/>
                </a:moveTo>
                <a:cubicBezTo>
                  <a:pt x="8912" y="13242"/>
                  <a:pt x="8928" y="13326"/>
                  <a:pt x="8954" y="13419"/>
                </a:cubicBezTo>
              </a:path>
              <a:path w="4193" h="472">
                <a:moveTo>
                  <a:pt x="8855" y="13022"/>
                </a:moveTo>
                <a:cubicBezTo>
                  <a:pt x="8855" y="13014"/>
                  <a:pt x="8855" y="13006"/>
                  <a:pt x="8855" y="12998"/>
                </a:cubicBezTo>
              </a:path>
              <a:path w="4193" h="472">
                <a:moveTo>
                  <a:pt x="8855" y="12998"/>
                </a:moveTo>
                <a:lnTo>
                  <a:pt x="8855" y="12998"/>
                </a:lnTo>
              </a:path>
              <a:path w="4193" h="472">
                <a:moveTo>
                  <a:pt x="9252" y="12948"/>
                </a:moveTo>
                <a:lnTo>
                  <a:pt x="9252" y="12948"/>
                </a:lnTo>
              </a:path>
              <a:path w="4193" h="472">
                <a:moveTo>
                  <a:pt x="9252" y="12948"/>
                </a:moveTo>
                <a:lnTo>
                  <a:pt x="9252" y="12948"/>
                </a:lnTo>
              </a:path>
              <a:path w="4193" h="472">
                <a:moveTo>
                  <a:pt x="11112" y="13047"/>
                </a:moveTo>
                <a:cubicBezTo>
                  <a:pt x="11120" y="13047"/>
                  <a:pt x="11129" y="13047"/>
                  <a:pt x="11137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08160" y="4152960"/>
            <a:ext cx="4813200" cy="865080"/>
          </a:xfrm>
          <a:custGeom>
            <a:avLst/>
            <a:gdLst/>
            <a:ahLst/>
            <a:rect l="l" t="t" r="r" b="b"/>
            <a:pathLst>
              <a:path w="13371" h="2407">
                <a:moveTo>
                  <a:pt x="5854" y="13146"/>
                </a:moveTo>
                <a:cubicBezTo>
                  <a:pt x="5854" y="13328"/>
                  <a:pt x="5854" y="13510"/>
                  <a:pt x="5854" y="13692"/>
                </a:cubicBezTo>
                <a:cubicBezTo>
                  <a:pt x="5854" y="13829"/>
                  <a:pt x="5854" y="13789"/>
                  <a:pt x="5854" y="13667"/>
                </a:cubicBezTo>
                <a:cubicBezTo>
                  <a:pt x="5854" y="13512"/>
                  <a:pt x="5940" y="13404"/>
                  <a:pt x="6102" y="13519"/>
                </a:cubicBezTo>
                <a:cubicBezTo>
                  <a:pt x="6272" y="13640"/>
                  <a:pt x="6069" y="13789"/>
                  <a:pt x="5953" y="13816"/>
                </a:cubicBezTo>
                <a:cubicBezTo>
                  <a:pt x="5825" y="13846"/>
                  <a:pt x="5854" y="13806"/>
                  <a:pt x="5854" y="13717"/>
                </a:cubicBezTo>
              </a:path>
              <a:path w="13371" h="2407">
                <a:moveTo>
                  <a:pt x="6375" y="13444"/>
                </a:moveTo>
                <a:cubicBezTo>
                  <a:pt x="6243" y="13466"/>
                  <a:pt x="6150" y="13529"/>
                  <a:pt x="6176" y="13692"/>
                </a:cubicBezTo>
                <a:cubicBezTo>
                  <a:pt x="6184" y="13700"/>
                  <a:pt x="6193" y="13709"/>
                  <a:pt x="6201" y="13717"/>
                </a:cubicBezTo>
                <a:cubicBezTo>
                  <a:pt x="6258" y="13683"/>
                  <a:pt x="6335" y="13549"/>
                  <a:pt x="6350" y="13568"/>
                </a:cubicBezTo>
                <a:cubicBezTo>
                  <a:pt x="6380" y="13606"/>
                  <a:pt x="6365" y="13609"/>
                  <a:pt x="6424" y="13643"/>
                </a:cubicBezTo>
              </a:path>
              <a:path w="13371" h="2407">
                <a:moveTo>
                  <a:pt x="6524" y="13320"/>
                </a:moveTo>
                <a:cubicBezTo>
                  <a:pt x="6507" y="13337"/>
                  <a:pt x="6491" y="13353"/>
                  <a:pt x="6474" y="13370"/>
                </a:cubicBezTo>
                <a:cubicBezTo>
                  <a:pt x="6474" y="13457"/>
                  <a:pt x="6557" y="13444"/>
                  <a:pt x="6598" y="13519"/>
                </a:cubicBezTo>
                <a:cubicBezTo>
                  <a:pt x="6639" y="13594"/>
                  <a:pt x="6395" y="13653"/>
                  <a:pt x="6375" y="13618"/>
                </a:cubicBezTo>
                <a:cubicBezTo>
                  <a:pt x="6383" y="13593"/>
                  <a:pt x="6392" y="13568"/>
                  <a:pt x="6400" y="13543"/>
                </a:cubicBezTo>
              </a:path>
              <a:path w="13371" h="2407">
                <a:moveTo>
                  <a:pt x="6648" y="13171"/>
                </a:moveTo>
                <a:cubicBezTo>
                  <a:pt x="6653" y="13274"/>
                  <a:pt x="6627" y="13524"/>
                  <a:pt x="6697" y="13593"/>
                </a:cubicBezTo>
                <a:cubicBezTo>
                  <a:pt x="6697" y="13585"/>
                  <a:pt x="6697" y="13576"/>
                  <a:pt x="6697" y="13568"/>
                </a:cubicBezTo>
              </a:path>
              <a:path w="13371" h="2407">
                <a:moveTo>
                  <a:pt x="6796" y="13221"/>
                </a:moveTo>
                <a:cubicBezTo>
                  <a:pt x="6708" y="13333"/>
                  <a:pt x="6689" y="13377"/>
                  <a:pt x="6672" y="13519"/>
                </a:cubicBezTo>
                <a:cubicBezTo>
                  <a:pt x="6811" y="13577"/>
                  <a:pt x="6890" y="13493"/>
                  <a:pt x="6970" y="13370"/>
                </a:cubicBezTo>
                <a:cubicBezTo>
                  <a:pt x="6970" y="13362"/>
                  <a:pt x="6970" y="13353"/>
                  <a:pt x="6970" y="13345"/>
                </a:cubicBezTo>
                <a:cubicBezTo>
                  <a:pt x="6924" y="13379"/>
                  <a:pt x="6891" y="13595"/>
                  <a:pt x="7020" y="13543"/>
                </a:cubicBezTo>
                <a:cubicBezTo>
                  <a:pt x="7036" y="13518"/>
                  <a:pt x="7053" y="13494"/>
                  <a:pt x="7069" y="13469"/>
                </a:cubicBezTo>
              </a:path>
              <a:path w="13371" h="2407">
                <a:moveTo>
                  <a:pt x="7069" y="13097"/>
                </a:moveTo>
                <a:cubicBezTo>
                  <a:pt x="7074" y="13200"/>
                  <a:pt x="7049" y="13450"/>
                  <a:pt x="7119" y="13519"/>
                </a:cubicBezTo>
                <a:cubicBezTo>
                  <a:pt x="7119" y="13511"/>
                  <a:pt x="7119" y="13502"/>
                  <a:pt x="7119" y="13494"/>
                </a:cubicBezTo>
              </a:path>
              <a:path w="13371" h="2407">
                <a:moveTo>
                  <a:pt x="7342" y="13072"/>
                </a:moveTo>
                <a:cubicBezTo>
                  <a:pt x="7326" y="13221"/>
                  <a:pt x="7348" y="13344"/>
                  <a:pt x="7367" y="13494"/>
                </a:cubicBezTo>
                <a:cubicBezTo>
                  <a:pt x="7371" y="13457"/>
                  <a:pt x="7421" y="13200"/>
                  <a:pt x="7516" y="13345"/>
                </a:cubicBezTo>
                <a:cubicBezTo>
                  <a:pt x="7582" y="13446"/>
                  <a:pt x="7463" y="13560"/>
                  <a:pt x="7367" y="13568"/>
                </a:cubicBezTo>
                <a:cubicBezTo>
                  <a:pt x="7350" y="13560"/>
                  <a:pt x="7334" y="13551"/>
                  <a:pt x="7317" y="13543"/>
                </a:cubicBezTo>
              </a:path>
              <a:path w="13371" h="2407">
                <a:moveTo>
                  <a:pt x="7665" y="13370"/>
                </a:moveTo>
                <a:cubicBezTo>
                  <a:pt x="7579" y="13370"/>
                  <a:pt x="7541" y="13460"/>
                  <a:pt x="7541" y="13543"/>
                </a:cubicBezTo>
                <a:cubicBezTo>
                  <a:pt x="7549" y="13551"/>
                  <a:pt x="7557" y="13560"/>
                  <a:pt x="7565" y="13568"/>
                </a:cubicBezTo>
                <a:cubicBezTo>
                  <a:pt x="7635" y="13538"/>
                  <a:pt x="7640" y="13444"/>
                  <a:pt x="7640" y="13444"/>
                </a:cubicBezTo>
                <a:cubicBezTo>
                  <a:pt x="7661" y="13528"/>
                  <a:pt x="7701" y="13591"/>
                  <a:pt x="7764" y="13494"/>
                </a:cubicBezTo>
                <a:cubicBezTo>
                  <a:pt x="7789" y="13453"/>
                  <a:pt x="7813" y="13411"/>
                  <a:pt x="7838" y="13370"/>
                </a:cubicBezTo>
              </a:path>
              <a:path w="13371" h="2407">
                <a:moveTo>
                  <a:pt x="7838" y="13146"/>
                </a:moveTo>
                <a:cubicBezTo>
                  <a:pt x="7838" y="13281"/>
                  <a:pt x="7848" y="13409"/>
                  <a:pt x="7863" y="13543"/>
                </a:cubicBezTo>
                <a:cubicBezTo>
                  <a:pt x="7870" y="13610"/>
                  <a:pt x="7898" y="13484"/>
                  <a:pt x="7913" y="13419"/>
                </a:cubicBezTo>
              </a:path>
              <a:path w="13371" h="2407">
                <a:moveTo>
                  <a:pt x="7938" y="13146"/>
                </a:moveTo>
                <a:cubicBezTo>
                  <a:pt x="8008" y="13194"/>
                  <a:pt x="8006" y="13391"/>
                  <a:pt x="8012" y="13494"/>
                </a:cubicBezTo>
                <a:cubicBezTo>
                  <a:pt x="8012" y="13555"/>
                  <a:pt x="8003" y="13589"/>
                  <a:pt x="8037" y="13543"/>
                </a:cubicBezTo>
              </a:path>
              <a:path w="13371" h="2407">
                <a:moveTo>
                  <a:pt x="8161" y="13097"/>
                </a:moveTo>
                <a:cubicBezTo>
                  <a:pt x="8201" y="13218"/>
                  <a:pt x="8251" y="13377"/>
                  <a:pt x="8310" y="13494"/>
                </a:cubicBezTo>
                <a:cubicBezTo>
                  <a:pt x="8310" y="13486"/>
                  <a:pt x="8310" y="13477"/>
                  <a:pt x="8310" y="13469"/>
                </a:cubicBezTo>
              </a:path>
              <a:path w="13371" h="2407">
                <a:moveTo>
                  <a:pt x="8086" y="13072"/>
                </a:moveTo>
                <a:cubicBezTo>
                  <a:pt x="8231" y="13004"/>
                  <a:pt x="8295" y="12973"/>
                  <a:pt x="8434" y="13072"/>
                </a:cubicBezTo>
                <a:cubicBezTo>
                  <a:pt x="8409" y="13158"/>
                  <a:pt x="8349" y="13156"/>
                  <a:pt x="8260" y="13196"/>
                </a:cubicBezTo>
              </a:path>
              <a:path w="13371" h="2407">
                <a:moveTo>
                  <a:pt x="8607" y="13146"/>
                </a:moveTo>
                <a:cubicBezTo>
                  <a:pt x="8540" y="13256"/>
                  <a:pt x="8481" y="13322"/>
                  <a:pt x="8533" y="13444"/>
                </a:cubicBezTo>
                <a:cubicBezTo>
                  <a:pt x="8600" y="13431"/>
                  <a:pt x="8718" y="13370"/>
                  <a:pt x="8632" y="13271"/>
                </a:cubicBezTo>
                <a:cubicBezTo>
                  <a:pt x="8584" y="13247"/>
                  <a:pt x="8567" y="13241"/>
                  <a:pt x="8582" y="13196"/>
                </a:cubicBezTo>
              </a:path>
              <a:path w="13371" h="2407">
                <a:moveTo>
                  <a:pt x="8781" y="13072"/>
                </a:moveTo>
                <a:cubicBezTo>
                  <a:pt x="8726" y="13127"/>
                  <a:pt x="8703" y="13151"/>
                  <a:pt x="8781" y="13196"/>
                </a:cubicBezTo>
                <a:cubicBezTo>
                  <a:pt x="8803" y="13209"/>
                  <a:pt x="9005" y="13299"/>
                  <a:pt x="8880" y="13370"/>
                </a:cubicBezTo>
                <a:cubicBezTo>
                  <a:pt x="8796" y="13391"/>
                  <a:pt x="8777" y="13406"/>
                  <a:pt x="8731" y="13370"/>
                </a:cubicBezTo>
              </a:path>
              <a:path w="13371" h="2407">
                <a:moveTo>
                  <a:pt x="9029" y="12849"/>
                </a:moveTo>
                <a:cubicBezTo>
                  <a:pt x="9070" y="12996"/>
                  <a:pt x="9135" y="13145"/>
                  <a:pt x="9153" y="13295"/>
                </a:cubicBezTo>
                <a:cubicBezTo>
                  <a:pt x="9153" y="13303"/>
                  <a:pt x="9153" y="13312"/>
                  <a:pt x="9153" y="13320"/>
                </a:cubicBezTo>
              </a:path>
              <a:path w="13371" h="2407">
                <a:moveTo>
                  <a:pt x="8930" y="13097"/>
                </a:moveTo>
                <a:cubicBezTo>
                  <a:pt x="9033" y="13066"/>
                  <a:pt x="9227" y="12979"/>
                  <a:pt x="9302" y="13122"/>
                </a:cubicBezTo>
                <a:cubicBezTo>
                  <a:pt x="9325" y="13213"/>
                  <a:pt x="9331" y="13238"/>
                  <a:pt x="9351" y="13295"/>
                </a:cubicBezTo>
              </a:path>
              <a:path w="13371" h="2407">
                <a:moveTo>
                  <a:pt x="9500" y="12948"/>
                </a:moveTo>
                <a:cubicBezTo>
                  <a:pt x="9479" y="13031"/>
                  <a:pt x="9461" y="13076"/>
                  <a:pt x="9475" y="13171"/>
                </a:cubicBezTo>
                <a:cubicBezTo>
                  <a:pt x="9601" y="13096"/>
                  <a:pt x="9591" y="13054"/>
                  <a:pt x="9525" y="12923"/>
                </a:cubicBezTo>
              </a:path>
              <a:path w="13371" h="2407">
                <a:moveTo>
                  <a:pt x="9624" y="12973"/>
                </a:moveTo>
                <a:cubicBezTo>
                  <a:pt x="9632" y="12981"/>
                  <a:pt x="9641" y="12990"/>
                  <a:pt x="9649" y="12998"/>
                </a:cubicBezTo>
                <a:cubicBezTo>
                  <a:pt x="9649" y="12944"/>
                  <a:pt x="9655" y="12925"/>
                  <a:pt x="9674" y="12874"/>
                </a:cubicBezTo>
                <a:cubicBezTo>
                  <a:pt x="9718" y="12888"/>
                  <a:pt x="9782" y="12965"/>
                  <a:pt x="9847" y="12998"/>
                </a:cubicBezTo>
              </a:path>
              <a:path w="13371" h="2407">
                <a:moveTo>
                  <a:pt x="9947" y="12700"/>
                </a:moveTo>
                <a:cubicBezTo>
                  <a:pt x="9947" y="12806"/>
                  <a:pt x="10027" y="12785"/>
                  <a:pt x="10096" y="12849"/>
                </a:cubicBezTo>
                <a:cubicBezTo>
                  <a:pt x="10179" y="12926"/>
                  <a:pt x="9892" y="12922"/>
                  <a:pt x="9872" y="12923"/>
                </a:cubicBezTo>
              </a:path>
              <a:path w="13371" h="2407">
                <a:moveTo>
                  <a:pt x="10319" y="13097"/>
                </a:moveTo>
                <a:cubicBezTo>
                  <a:pt x="10319" y="13014"/>
                  <a:pt x="10319" y="13212"/>
                  <a:pt x="10319" y="13295"/>
                </a:cubicBezTo>
                <a:cubicBezTo>
                  <a:pt x="10319" y="13386"/>
                  <a:pt x="10319" y="13477"/>
                  <a:pt x="10319" y="13568"/>
                </a:cubicBezTo>
              </a:path>
              <a:path w="13371" h="2407">
                <a:moveTo>
                  <a:pt x="10046" y="13370"/>
                </a:moveTo>
                <a:cubicBezTo>
                  <a:pt x="10188" y="13358"/>
                  <a:pt x="10325" y="13327"/>
                  <a:pt x="10468" y="13320"/>
                </a:cubicBezTo>
                <a:cubicBezTo>
                  <a:pt x="10476" y="13320"/>
                  <a:pt x="10484" y="13320"/>
                  <a:pt x="10492" y="13320"/>
                </a:cubicBezTo>
              </a:path>
              <a:path w="13371" h="2407">
                <a:moveTo>
                  <a:pt x="10716" y="13320"/>
                </a:moveTo>
                <a:cubicBezTo>
                  <a:pt x="10688" y="13208"/>
                  <a:pt x="10568" y="13281"/>
                  <a:pt x="10517" y="13345"/>
                </a:cubicBezTo>
                <a:cubicBezTo>
                  <a:pt x="10477" y="13426"/>
                  <a:pt x="10461" y="13439"/>
                  <a:pt x="10468" y="13494"/>
                </a:cubicBezTo>
                <a:cubicBezTo>
                  <a:pt x="10569" y="13471"/>
                  <a:pt x="10568" y="13459"/>
                  <a:pt x="10616" y="13370"/>
                </a:cubicBezTo>
                <a:cubicBezTo>
                  <a:pt x="10636" y="13380"/>
                  <a:pt x="10710" y="13493"/>
                  <a:pt x="10740" y="13469"/>
                </a:cubicBezTo>
                <a:cubicBezTo>
                  <a:pt x="10748" y="13452"/>
                  <a:pt x="10757" y="13436"/>
                  <a:pt x="10765" y="13419"/>
                </a:cubicBezTo>
              </a:path>
              <a:path w="13371" h="2407">
                <a:moveTo>
                  <a:pt x="10765" y="12998"/>
                </a:moveTo>
                <a:cubicBezTo>
                  <a:pt x="10784" y="13130"/>
                  <a:pt x="10822" y="13263"/>
                  <a:pt x="10840" y="13395"/>
                </a:cubicBezTo>
                <a:cubicBezTo>
                  <a:pt x="10840" y="13446"/>
                  <a:pt x="10841" y="13461"/>
                  <a:pt x="10864" y="13395"/>
                </a:cubicBezTo>
              </a:path>
              <a:path w="13371" h="2407">
                <a:moveTo>
                  <a:pt x="10964" y="12923"/>
                </a:moveTo>
                <a:cubicBezTo>
                  <a:pt x="10978" y="13081"/>
                  <a:pt x="11018" y="13237"/>
                  <a:pt x="11038" y="13395"/>
                </a:cubicBezTo>
                <a:cubicBezTo>
                  <a:pt x="11053" y="13513"/>
                  <a:pt x="11092" y="13341"/>
                  <a:pt x="11112" y="13295"/>
                </a:cubicBezTo>
              </a:path>
              <a:path w="13371" h="2407">
                <a:moveTo>
                  <a:pt x="11162" y="13196"/>
                </a:moveTo>
                <a:cubicBezTo>
                  <a:pt x="11171" y="13229"/>
                  <a:pt x="11212" y="13439"/>
                  <a:pt x="11212" y="13395"/>
                </a:cubicBezTo>
              </a:path>
              <a:path w="13371" h="2407">
                <a:moveTo>
                  <a:pt x="11410" y="13171"/>
                </a:moveTo>
                <a:cubicBezTo>
                  <a:pt x="11483" y="13164"/>
                  <a:pt x="11600" y="13178"/>
                  <a:pt x="11559" y="13097"/>
                </a:cubicBezTo>
                <a:cubicBezTo>
                  <a:pt x="11436" y="13109"/>
                  <a:pt x="11394" y="13183"/>
                  <a:pt x="11410" y="13320"/>
                </a:cubicBezTo>
                <a:cubicBezTo>
                  <a:pt x="11424" y="13440"/>
                  <a:pt x="11591" y="13334"/>
                  <a:pt x="11633" y="13320"/>
                </a:cubicBezTo>
              </a:path>
              <a:path w="13371" h="2407">
                <a:moveTo>
                  <a:pt x="11807" y="13022"/>
                </a:moveTo>
                <a:cubicBezTo>
                  <a:pt x="11762" y="13022"/>
                  <a:pt x="11749" y="13018"/>
                  <a:pt x="11733" y="13047"/>
                </a:cubicBezTo>
                <a:cubicBezTo>
                  <a:pt x="11747" y="13135"/>
                  <a:pt x="11841" y="13155"/>
                  <a:pt x="11931" y="13196"/>
                </a:cubicBezTo>
                <a:cubicBezTo>
                  <a:pt x="11878" y="13263"/>
                  <a:pt x="11803" y="13282"/>
                  <a:pt x="11708" y="13295"/>
                </a:cubicBezTo>
              </a:path>
              <a:path w="13371" h="2407">
                <a:moveTo>
                  <a:pt x="13345" y="12898"/>
                </a:moveTo>
                <a:cubicBezTo>
                  <a:pt x="13302" y="12878"/>
                  <a:pt x="13405" y="13128"/>
                  <a:pt x="13419" y="13221"/>
                </a:cubicBezTo>
                <a:cubicBezTo>
                  <a:pt x="13441" y="13366"/>
                  <a:pt x="13345" y="12901"/>
                  <a:pt x="13345" y="12898"/>
                </a:cubicBezTo>
                <a:cubicBezTo>
                  <a:pt x="13345" y="12849"/>
                  <a:pt x="13345" y="12799"/>
                  <a:pt x="13345" y="12750"/>
                </a:cubicBezTo>
                <a:cubicBezTo>
                  <a:pt x="13455" y="12750"/>
                  <a:pt x="13620" y="12710"/>
                  <a:pt x="13717" y="12725"/>
                </a:cubicBezTo>
                <a:cubicBezTo>
                  <a:pt x="13717" y="12733"/>
                  <a:pt x="13717" y="12742"/>
                  <a:pt x="13717" y="12750"/>
                </a:cubicBezTo>
              </a:path>
              <a:path w="13371" h="2407">
                <a:moveTo>
                  <a:pt x="13419" y="13047"/>
                </a:moveTo>
                <a:cubicBezTo>
                  <a:pt x="13493" y="13027"/>
                  <a:pt x="13707" y="12916"/>
                  <a:pt x="13767" y="12998"/>
                </a:cubicBezTo>
                <a:cubicBezTo>
                  <a:pt x="13818" y="13068"/>
                  <a:pt x="13816" y="13083"/>
                  <a:pt x="13816" y="13146"/>
                </a:cubicBezTo>
                <a:cubicBezTo>
                  <a:pt x="13797" y="13027"/>
                  <a:pt x="13791" y="12927"/>
                  <a:pt x="13940" y="12898"/>
                </a:cubicBezTo>
                <a:cubicBezTo>
                  <a:pt x="13965" y="12898"/>
                  <a:pt x="13990" y="12898"/>
                  <a:pt x="14015" y="12898"/>
                </a:cubicBezTo>
              </a:path>
              <a:path w="13371" h="2407">
                <a:moveTo>
                  <a:pt x="14139" y="13072"/>
                </a:moveTo>
                <a:cubicBezTo>
                  <a:pt x="14228" y="13050"/>
                  <a:pt x="14253" y="13049"/>
                  <a:pt x="14288" y="12998"/>
                </a:cubicBezTo>
                <a:cubicBezTo>
                  <a:pt x="14267" y="12914"/>
                  <a:pt x="14139" y="12932"/>
                  <a:pt x="14089" y="12998"/>
                </a:cubicBezTo>
                <a:cubicBezTo>
                  <a:pt x="13930" y="13204"/>
                  <a:pt x="14229" y="13236"/>
                  <a:pt x="14337" y="13246"/>
                </a:cubicBezTo>
              </a:path>
              <a:path w="13371" h="2407">
                <a:moveTo>
                  <a:pt x="14536" y="12948"/>
                </a:moveTo>
                <a:cubicBezTo>
                  <a:pt x="14463" y="12991"/>
                  <a:pt x="14253" y="13159"/>
                  <a:pt x="14387" y="13271"/>
                </a:cubicBezTo>
                <a:cubicBezTo>
                  <a:pt x="14490" y="13357"/>
                  <a:pt x="14557" y="13138"/>
                  <a:pt x="14585" y="13122"/>
                </a:cubicBezTo>
                <a:cubicBezTo>
                  <a:pt x="14585" y="13130"/>
                  <a:pt x="14585" y="13138"/>
                  <a:pt x="14585" y="13146"/>
                </a:cubicBezTo>
                <a:cubicBezTo>
                  <a:pt x="14585" y="13381"/>
                  <a:pt x="14594" y="13608"/>
                  <a:pt x="14610" y="13841"/>
                </a:cubicBezTo>
                <a:cubicBezTo>
                  <a:pt x="14610" y="13902"/>
                  <a:pt x="14601" y="13936"/>
                  <a:pt x="14635" y="13891"/>
                </a:cubicBezTo>
                <a:cubicBezTo>
                  <a:pt x="14679" y="13615"/>
                  <a:pt x="14620" y="13649"/>
                  <a:pt x="14486" y="13469"/>
                </a:cubicBezTo>
                <a:cubicBezTo>
                  <a:pt x="14486" y="13452"/>
                  <a:pt x="14486" y="13436"/>
                  <a:pt x="14486" y="13419"/>
                </a:cubicBezTo>
              </a:path>
              <a:path w="13371" h="2407">
                <a:moveTo>
                  <a:pt x="14660" y="13171"/>
                </a:moveTo>
                <a:cubicBezTo>
                  <a:pt x="14707" y="13214"/>
                  <a:pt x="14785" y="13365"/>
                  <a:pt x="14833" y="13370"/>
                </a:cubicBezTo>
                <a:cubicBezTo>
                  <a:pt x="14971" y="13385"/>
                  <a:pt x="14968" y="13254"/>
                  <a:pt x="14982" y="13146"/>
                </a:cubicBezTo>
                <a:cubicBezTo>
                  <a:pt x="14989" y="13198"/>
                  <a:pt x="15002" y="13432"/>
                  <a:pt x="15106" y="13419"/>
                </a:cubicBezTo>
                <a:cubicBezTo>
                  <a:pt x="15131" y="13403"/>
                  <a:pt x="15155" y="13386"/>
                  <a:pt x="15180" y="13370"/>
                </a:cubicBezTo>
              </a:path>
              <a:path w="13371" h="2407">
                <a:moveTo>
                  <a:pt x="15205" y="13196"/>
                </a:moveTo>
                <a:cubicBezTo>
                  <a:pt x="15255" y="13146"/>
                  <a:pt x="15271" y="13130"/>
                  <a:pt x="15304" y="13097"/>
                </a:cubicBezTo>
                <a:cubicBezTo>
                  <a:pt x="15207" y="13146"/>
                  <a:pt x="15123" y="13280"/>
                  <a:pt x="15205" y="13395"/>
                </a:cubicBezTo>
                <a:cubicBezTo>
                  <a:pt x="15278" y="13498"/>
                  <a:pt x="15401" y="13201"/>
                  <a:pt x="15404" y="13196"/>
                </a:cubicBezTo>
                <a:cubicBezTo>
                  <a:pt x="15450" y="13219"/>
                  <a:pt x="15453" y="13304"/>
                  <a:pt x="15453" y="13271"/>
                </a:cubicBezTo>
                <a:cubicBezTo>
                  <a:pt x="15429" y="13183"/>
                  <a:pt x="15457" y="13156"/>
                  <a:pt x="15503" y="13072"/>
                </a:cubicBezTo>
                <a:cubicBezTo>
                  <a:pt x="15633" y="13148"/>
                  <a:pt x="15673" y="13215"/>
                  <a:pt x="15701" y="13370"/>
                </a:cubicBezTo>
              </a:path>
              <a:path w="13371" h="2407">
                <a:moveTo>
                  <a:pt x="15925" y="13072"/>
                </a:moveTo>
                <a:cubicBezTo>
                  <a:pt x="15905" y="13133"/>
                  <a:pt x="15848" y="13076"/>
                  <a:pt x="15801" y="13047"/>
                </a:cubicBezTo>
                <a:cubicBezTo>
                  <a:pt x="15755" y="13120"/>
                  <a:pt x="15671" y="13378"/>
                  <a:pt x="15850" y="13395"/>
                </a:cubicBezTo>
                <a:cubicBezTo>
                  <a:pt x="16014" y="13411"/>
                  <a:pt x="16062" y="13254"/>
                  <a:pt x="16123" y="13146"/>
                </a:cubicBezTo>
                <a:cubicBezTo>
                  <a:pt x="16123" y="13204"/>
                  <a:pt x="16123" y="13309"/>
                  <a:pt x="16173" y="13345"/>
                </a:cubicBezTo>
                <a:cubicBezTo>
                  <a:pt x="16236" y="13390"/>
                  <a:pt x="16289" y="13212"/>
                  <a:pt x="16297" y="13196"/>
                </a:cubicBezTo>
                <a:cubicBezTo>
                  <a:pt x="16346" y="13369"/>
                  <a:pt x="16388" y="13503"/>
                  <a:pt x="16346" y="13692"/>
                </a:cubicBezTo>
                <a:cubicBezTo>
                  <a:pt x="16299" y="13904"/>
                  <a:pt x="16115" y="13967"/>
                  <a:pt x="15925" y="13915"/>
                </a:cubicBezTo>
                <a:cubicBezTo>
                  <a:pt x="15917" y="13907"/>
                  <a:pt x="15908" y="13899"/>
                  <a:pt x="15900" y="13891"/>
                </a:cubicBezTo>
              </a:path>
              <a:path w="13371" h="2407">
                <a:moveTo>
                  <a:pt x="9550" y="11757"/>
                </a:moveTo>
                <a:cubicBezTo>
                  <a:pt x="9509" y="11922"/>
                  <a:pt x="9309" y="12106"/>
                  <a:pt x="9203" y="12229"/>
                </a:cubicBezTo>
                <a:cubicBezTo>
                  <a:pt x="9185" y="12250"/>
                  <a:pt x="8822" y="12639"/>
                  <a:pt x="8855" y="12650"/>
                </a:cubicBezTo>
                <a:cubicBezTo>
                  <a:pt x="8863" y="12650"/>
                  <a:pt x="8872" y="12650"/>
                  <a:pt x="8880" y="12650"/>
                </a:cubicBezTo>
              </a:path>
              <a:path w="13371" h="2407">
                <a:moveTo>
                  <a:pt x="10740" y="11906"/>
                </a:moveTo>
                <a:cubicBezTo>
                  <a:pt x="10842" y="11753"/>
                  <a:pt x="10545" y="12120"/>
                  <a:pt x="10418" y="12254"/>
                </a:cubicBezTo>
                <a:cubicBezTo>
                  <a:pt x="10292" y="12387"/>
                  <a:pt x="10169" y="12516"/>
                  <a:pt x="10046" y="12650"/>
                </a:cubicBezTo>
              </a:path>
              <a:path w="13371" h="2407">
                <a:moveTo>
                  <a:pt x="11981" y="11857"/>
                </a:moveTo>
                <a:cubicBezTo>
                  <a:pt x="11981" y="11840"/>
                  <a:pt x="11981" y="11824"/>
                  <a:pt x="11981" y="11807"/>
                </a:cubicBezTo>
                <a:cubicBezTo>
                  <a:pt x="11945" y="11914"/>
                  <a:pt x="11729" y="12226"/>
                  <a:pt x="11658" y="12328"/>
                </a:cubicBezTo>
                <a:cubicBezTo>
                  <a:pt x="11561" y="12466"/>
                  <a:pt x="11448" y="12599"/>
                  <a:pt x="11336" y="12725"/>
                </a:cubicBezTo>
              </a:path>
              <a:path w="13371" h="2407">
                <a:moveTo>
                  <a:pt x="12898" y="11609"/>
                </a:moveTo>
                <a:cubicBezTo>
                  <a:pt x="12898" y="11729"/>
                  <a:pt x="12780" y="11908"/>
                  <a:pt x="12725" y="12005"/>
                </a:cubicBezTo>
                <a:cubicBezTo>
                  <a:pt x="12650" y="12136"/>
                  <a:pt x="12530" y="12293"/>
                  <a:pt x="12477" y="12427"/>
                </a:cubicBezTo>
              </a:path>
              <a:path w="13371" h="2407">
                <a:moveTo>
                  <a:pt x="13940" y="11832"/>
                </a:moveTo>
                <a:cubicBezTo>
                  <a:pt x="13865" y="12009"/>
                  <a:pt x="13697" y="12161"/>
                  <a:pt x="13593" y="12328"/>
                </a:cubicBezTo>
                <a:cubicBezTo>
                  <a:pt x="13567" y="12370"/>
                  <a:pt x="13491" y="12497"/>
                  <a:pt x="13469" y="12551"/>
                </a:cubicBezTo>
              </a:path>
              <a:path w="13371" h="2407">
                <a:moveTo>
                  <a:pt x="15056" y="11733"/>
                </a:moveTo>
                <a:cubicBezTo>
                  <a:pt x="14932" y="11808"/>
                  <a:pt x="14766" y="12047"/>
                  <a:pt x="14660" y="12154"/>
                </a:cubicBezTo>
                <a:cubicBezTo>
                  <a:pt x="14515" y="12299"/>
                  <a:pt x="14481" y="12324"/>
                  <a:pt x="14412" y="12427"/>
                </a:cubicBezTo>
              </a:path>
              <a:path w="13371" h="2407">
                <a:moveTo>
                  <a:pt x="16173" y="11807"/>
                </a:moveTo>
                <a:cubicBezTo>
                  <a:pt x="16005" y="11999"/>
                  <a:pt x="15806" y="12146"/>
                  <a:pt x="15627" y="12328"/>
                </a:cubicBezTo>
                <a:cubicBezTo>
                  <a:pt x="15547" y="12409"/>
                  <a:pt x="15427" y="12437"/>
                  <a:pt x="15429" y="12551"/>
                </a:cubicBezTo>
              </a:path>
              <a:path w="13371" h="2407">
                <a:moveTo>
                  <a:pt x="17140" y="11658"/>
                </a:moveTo>
                <a:cubicBezTo>
                  <a:pt x="16987" y="11910"/>
                  <a:pt x="16808" y="12134"/>
                  <a:pt x="16644" y="12378"/>
                </a:cubicBezTo>
                <a:cubicBezTo>
                  <a:pt x="16570" y="12488"/>
                  <a:pt x="16540" y="12502"/>
                  <a:pt x="16570" y="12502"/>
                </a:cubicBezTo>
              </a:path>
              <a:path w="13371" h="2407">
                <a:moveTo>
                  <a:pt x="18083" y="11832"/>
                </a:moveTo>
                <a:cubicBezTo>
                  <a:pt x="17932" y="11832"/>
                  <a:pt x="17928" y="11910"/>
                  <a:pt x="17810" y="12030"/>
                </a:cubicBezTo>
                <a:cubicBezTo>
                  <a:pt x="17629" y="12214"/>
                  <a:pt x="17482" y="12407"/>
                  <a:pt x="17314" y="12601"/>
                </a:cubicBezTo>
              </a:path>
              <a:path w="13371" h="2407">
                <a:moveTo>
                  <a:pt x="19224" y="11534"/>
                </a:moveTo>
                <a:cubicBezTo>
                  <a:pt x="19042" y="11734"/>
                  <a:pt x="18882" y="11952"/>
                  <a:pt x="18703" y="12154"/>
                </a:cubicBezTo>
                <a:cubicBezTo>
                  <a:pt x="18625" y="12242"/>
                  <a:pt x="18542" y="12303"/>
                  <a:pt x="1845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720" y="4813200"/>
            <a:ext cx="3867120" cy="1670040"/>
          </a:xfrm>
          <a:custGeom>
            <a:avLst/>
            <a:gdLst/>
            <a:ahLst/>
            <a:rect l="l" t="t" r="r" b="b"/>
            <a:pathLst>
              <a:path w="10741" h="4639">
                <a:moveTo>
                  <a:pt x="6003" y="13990"/>
                </a:moveTo>
                <a:cubicBezTo>
                  <a:pt x="6006" y="14064"/>
                  <a:pt x="5999" y="14089"/>
                  <a:pt x="6003" y="14163"/>
                </a:cubicBezTo>
                <a:cubicBezTo>
                  <a:pt x="6024" y="14559"/>
                  <a:pt x="6018" y="14955"/>
                  <a:pt x="6028" y="15354"/>
                </a:cubicBezTo>
                <a:cubicBezTo>
                  <a:pt x="6034" y="15591"/>
                  <a:pt x="6055" y="15813"/>
                  <a:pt x="6077" y="16049"/>
                </a:cubicBezTo>
                <a:cubicBezTo>
                  <a:pt x="6097" y="16266"/>
                  <a:pt x="6119" y="16476"/>
                  <a:pt x="6127" y="16694"/>
                </a:cubicBezTo>
                <a:cubicBezTo>
                  <a:pt x="6135" y="16920"/>
                  <a:pt x="6121" y="17144"/>
                  <a:pt x="6102" y="17363"/>
                </a:cubicBezTo>
                <a:cubicBezTo>
                  <a:pt x="6092" y="17473"/>
                  <a:pt x="6082" y="17579"/>
                  <a:pt x="6077" y="17686"/>
                </a:cubicBezTo>
                <a:cubicBezTo>
                  <a:pt x="6075" y="17731"/>
                  <a:pt x="6105" y="17746"/>
                  <a:pt x="6102" y="17785"/>
                </a:cubicBezTo>
                <a:cubicBezTo>
                  <a:pt x="6099" y="17825"/>
                  <a:pt x="6078" y="17839"/>
                  <a:pt x="6077" y="17884"/>
                </a:cubicBezTo>
                <a:cubicBezTo>
                  <a:pt x="6076" y="17925"/>
                  <a:pt x="6080" y="17967"/>
                  <a:pt x="6077" y="18008"/>
                </a:cubicBezTo>
                <a:cubicBezTo>
                  <a:pt x="6145" y="17981"/>
                  <a:pt x="6226" y="17933"/>
                  <a:pt x="6300" y="17909"/>
                </a:cubicBezTo>
                <a:cubicBezTo>
                  <a:pt x="6394" y="17878"/>
                  <a:pt x="6502" y="17851"/>
                  <a:pt x="6598" y="17835"/>
                </a:cubicBezTo>
                <a:cubicBezTo>
                  <a:pt x="6747" y="17811"/>
                  <a:pt x="6893" y="17826"/>
                  <a:pt x="7045" y="17810"/>
                </a:cubicBezTo>
                <a:cubicBezTo>
                  <a:pt x="7435" y="17769"/>
                  <a:pt x="7795" y="17776"/>
                  <a:pt x="8186" y="17785"/>
                </a:cubicBezTo>
                <a:cubicBezTo>
                  <a:pt x="8401" y="17790"/>
                  <a:pt x="8616" y="17813"/>
                  <a:pt x="8830" y="17810"/>
                </a:cubicBezTo>
                <a:cubicBezTo>
                  <a:pt x="9159" y="17805"/>
                  <a:pt x="9491" y="17785"/>
                  <a:pt x="9823" y="17785"/>
                </a:cubicBezTo>
                <a:cubicBezTo>
                  <a:pt x="10428" y="17785"/>
                  <a:pt x="11030" y="17764"/>
                  <a:pt x="11633" y="17760"/>
                </a:cubicBezTo>
                <a:cubicBezTo>
                  <a:pt x="12187" y="17756"/>
                  <a:pt x="12745" y="17772"/>
                  <a:pt x="13295" y="17785"/>
                </a:cubicBezTo>
                <a:cubicBezTo>
                  <a:pt x="13569" y="17792"/>
                  <a:pt x="13841" y="17843"/>
                  <a:pt x="14114" y="17859"/>
                </a:cubicBezTo>
                <a:cubicBezTo>
                  <a:pt x="14531" y="17884"/>
                  <a:pt x="14939" y="17853"/>
                  <a:pt x="15354" y="17859"/>
                </a:cubicBezTo>
                <a:cubicBezTo>
                  <a:pt x="15495" y="17861"/>
                  <a:pt x="15616" y="17882"/>
                  <a:pt x="15751" y="17884"/>
                </a:cubicBezTo>
                <a:cubicBezTo>
                  <a:pt x="16083" y="17889"/>
                  <a:pt x="16413" y="17886"/>
                  <a:pt x="16743" y="17909"/>
                </a:cubicBezTo>
                <a:cubicBezTo>
                  <a:pt x="16723" y="17768"/>
                  <a:pt x="16704" y="17618"/>
                  <a:pt x="16694" y="17462"/>
                </a:cubicBezTo>
                <a:cubicBezTo>
                  <a:pt x="16684" y="17303"/>
                  <a:pt x="16671" y="17152"/>
                  <a:pt x="16669" y="16991"/>
                </a:cubicBezTo>
                <a:cubicBezTo>
                  <a:pt x="16667" y="16823"/>
                  <a:pt x="16680" y="16661"/>
                  <a:pt x="16694" y="16495"/>
                </a:cubicBezTo>
                <a:cubicBezTo>
                  <a:pt x="16712" y="16282"/>
                  <a:pt x="16747" y="16063"/>
                  <a:pt x="16743" y="15850"/>
                </a:cubicBezTo>
                <a:cubicBezTo>
                  <a:pt x="16738" y="15590"/>
                  <a:pt x="16738" y="15316"/>
                  <a:pt x="16718" y="15056"/>
                </a:cubicBezTo>
                <a:cubicBezTo>
                  <a:pt x="16695" y="14763"/>
                  <a:pt x="16660" y="14475"/>
                  <a:pt x="16619" y="14188"/>
                </a:cubicBezTo>
                <a:cubicBezTo>
                  <a:pt x="16598" y="14041"/>
                  <a:pt x="16586" y="13826"/>
                  <a:pt x="16520" y="13692"/>
                </a:cubicBezTo>
                <a:cubicBezTo>
                  <a:pt x="16461" y="13571"/>
                  <a:pt x="16590" y="13588"/>
                  <a:pt x="16446" y="13519"/>
                </a:cubicBezTo>
                <a:cubicBezTo>
                  <a:pt x="16279" y="13439"/>
                  <a:pt x="16070" y="13524"/>
                  <a:pt x="15900" y="13519"/>
                </a:cubicBezTo>
                <a:cubicBezTo>
                  <a:pt x="15514" y="13508"/>
                  <a:pt x="15142" y="13425"/>
                  <a:pt x="14759" y="13395"/>
                </a:cubicBezTo>
                <a:cubicBezTo>
                  <a:pt x="14490" y="13374"/>
                  <a:pt x="14211" y="13362"/>
                  <a:pt x="13940" y="13370"/>
                </a:cubicBezTo>
                <a:cubicBezTo>
                  <a:pt x="13724" y="13377"/>
                  <a:pt x="13509" y="13413"/>
                  <a:pt x="13295" y="13419"/>
                </a:cubicBezTo>
                <a:cubicBezTo>
                  <a:pt x="13005" y="13427"/>
                  <a:pt x="12717" y="13437"/>
                  <a:pt x="12427" y="13444"/>
                </a:cubicBezTo>
                <a:cubicBezTo>
                  <a:pt x="11988" y="13455"/>
                  <a:pt x="11551" y="13506"/>
                  <a:pt x="11112" y="13519"/>
                </a:cubicBezTo>
                <a:cubicBezTo>
                  <a:pt x="10642" y="13532"/>
                  <a:pt x="10167" y="13534"/>
                  <a:pt x="9699" y="13543"/>
                </a:cubicBezTo>
                <a:cubicBezTo>
                  <a:pt x="8950" y="13558"/>
                  <a:pt x="8132" y="13440"/>
                  <a:pt x="7392" y="13568"/>
                </a:cubicBezTo>
                <a:cubicBezTo>
                  <a:pt x="7268" y="13589"/>
                  <a:pt x="7141" y="13619"/>
                  <a:pt x="7020" y="13643"/>
                </a:cubicBezTo>
                <a:cubicBezTo>
                  <a:pt x="6987" y="13650"/>
                  <a:pt x="6838" y="13688"/>
                  <a:pt x="6772" y="13692"/>
                </a:cubicBezTo>
                <a:cubicBezTo>
                  <a:pt x="6668" y="13699"/>
                  <a:pt x="6601" y="13691"/>
                  <a:pt x="6499" y="13692"/>
                </a:cubicBezTo>
                <a:cubicBezTo>
                  <a:pt x="6409" y="13693"/>
                  <a:pt x="6300" y="13714"/>
                  <a:pt x="6226" y="13717"/>
                </a:cubicBezTo>
                <a:cubicBezTo>
                  <a:pt x="6176" y="13717"/>
                  <a:pt x="6160" y="13717"/>
                  <a:pt x="6127" y="13717"/>
                </a:cubicBezTo>
                <a:cubicBezTo>
                  <a:pt x="6143" y="13897"/>
                  <a:pt x="6180" y="14152"/>
                  <a:pt x="6201" y="14288"/>
                </a:cubicBezTo>
              </a:path>
              <a:path w="10741" h="4639">
                <a:moveTo>
                  <a:pt x="9401" y="13593"/>
                </a:moveTo>
                <a:cubicBezTo>
                  <a:pt x="9397" y="13615"/>
                  <a:pt x="9376" y="13729"/>
                  <a:pt x="9376" y="13791"/>
                </a:cubicBezTo>
                <a:cubicBezTo>
                  <a:pt x="9376" y="14025"/>
                  <a:pt x="9426" y="14250"/>
                  <a:pt x="9426" y="14486"/>
                </a:cubicBezTo>
                <a:cubicBezTo>
                  <a:pt x="9426" y="14639"/>
                  <a:pt x="9447" y="14782"/>
                  <a:pt x="9451" y="14932"/>
                </a:cubicBezTo>
                <a:cubicBezTo>
                  <a:pt x="9456" y="15115"/>
                  <a:pt x="9472" y="15295"/>
                  <a:pt x="9475" y="15478"/>
                </a:cubicBezTo>
                <a:cubicBezTo>
                  <a:pt x="9478" y="15664"/>
                  <a:pt x="9460" y="15843"/>
                  <a:pt x="9451" y="16024"/>
                </a:cubicBezTo>
                <a:cubicBezTo>
                  <a:pt x="9439" y="16273"/>
                  <a:pt x="9455" y="16523"/>
                  <a:pt x="9475" y="16768"/>
                </a:cubicBezTo>
                <a:cubicBezTo>
                  <a:pt x="9483" y="16862"/>
                  <a:pt x="9498" y="16947"/>
                  <a:pt x="9500" y="17041"/>
                </a:cubicBezTo>
                <a:cubicBezTo>
                  <a:pt x="9502" y="17122"/>
                  <a:pt x="9518" y="17188"/>
                  <a:pt x="9525" y="17264"/>
                </a:cubicBezTo>
                <a:cubicBezTo>
                  <a:pt x="9540" y="17432"/>
                  <a:pt x="9527" y="17657"/>
                  <a:pt x="9500" y="17785"/>
                </a:cubicBezTo>
                <a:cubicBezTo>
                  <a:pt x="9492" y="17821"/>
                  <a:pt x="9525" y="17748"/>
                  <a:pt x="9525" y="17785"/>
                </a:cubicBezTo>
              </a:path>
              <a:path w="10741" h="4639">
                <a:moveTo>
                  <a:pt x="12675" y="13494"/>
                </a:moveTo>
                <a:cubicBezTo>
                  <a:pt x="12700" y="13494"/>
                  <a:pt x="12708" y="13494"/>
                  <a:pt x="12700" y="13469"/>
                </a:cubicBezTo>
                <a:cubicBezTo>
                  <a:pt x="12676" y="13545"/>
                  <a:pt x="12636" y="13636"/>
                  <a:pt x="12626" y="13717"/>
                </a:cubicBezTo>
                <a:cubicBezTo>
                  <a:pt x="12613" y="13828"/>
                  <a:pt x="12609" y="13954"/>
                  <a:pt x="12601" y="14064"/>
                </a:cubicBezTo>
                <a:cubicBezTo>
                  <a:pt x="12581" y="14326"/>
                  <a:pt x="12589" y="14596"/>
                  <a:pt x="12576" y="14858"/>
                </a:cubicBezTo>
                <a:cubicBezTo>
                  <a:pt x="12560" y="15189"/>
                  <a:pt x="12569" y="15520"/>
                  <a:pt x="12551" y="15850"/>
                </a:cubicBezTo>
                <a:cubicBezTo>
                  <a:pt x="12541" y="16033"/>
                  <a:pt x="12538" y="16215"/>
                  <a:pt x="12526" y="16396"/>
                </a:cubicBezTo>
                <a:cubicBezTo>
                  <a:pt x="12515" y="16557"/>
                  <a:pt x="12538" y="16710"/>
                  <a:pt x="12551" y="16867"/>
                </a:cubicBezTo>
                <a:cubicBezTo>
                  <a:pt x="12561" y="16990"/>
                  <a:pt x="12560" y="17117"/>
                  <a:pt x="12576" y="17239"/>
                </a:cubicBezTo>
                <a:cubicBezTo>
                  <a:pt x="12586" y="17315"/>
                  <a:pt x="12598" y="17384"/>
                  <a:pt x="12601" y="17462"/>
                </a:cubicBezTo>
                <a:cubicBezTo>
                  <a:pt x="12603" y="17519"/>
                  <a:pt x="12621" y="17560"/>
                  <a:pt x="12626" y="17611"/>
                </a:cubicBezTo>
                <a:cubicBezTo>
                  <a:pt x="12633" y="17685"/>
                  <a:pt x="12644" y="17767"/>
                  <a:pt x="12650" y="17835"/>
                </a:cubicBezTo>
                <a:cubicBezTo>
                  <a:pt x="12654" y="17876"/>
                  <a:pt x="12644" y="17868"/>
                  <a:pt x="12650" y="17909"/>
                </a:cubicBezTo>
              </a:path>
              <a:path w="10741" h="4639">
                <a:moveTo>
                  <a:pt x="9798" y="14932"/>
                </a:moveTo>
                <a:cubicBezTo>
                  <a:pt x="9798" y="14850"/>
                  <a:pt x="9790" y="15049"/>
                  <a:pt x="9798" y="15131"/>
                </a:cubicBezTo>
                <a:cubicBezTo>
                  <a:pt x="9807" y="15234"/>
                  <a:pt x="9823" y="15306"/>
                  <a:pt x="9823" y="15404"/>
                </a:cubicBezTo>
              </a:path>
              <a:path w="10741" h="4639">
                <a:moveTo>
                  <a:pt x="10071" y="14932"/>
                </a:moveTo>
                <a:cubicBezTo>
                  <a:pt x="10071" y="14805"/>
                  <a:pt x="10116" y="15131"/>
                  <a:pt x="10145" y="15255"/>
                </a:cubicBezTo>
                <a:cubicBezTo>
                  <a:pt x="10168" y="15354"/>
                  <a:pt x="10195" y="15655"/>
                  <a:pt x="10195" y="15553"/>
                </a:cubicBezTo>
                <a:cubicBezTo>
                  <a:pt x="10195" y="15545"/>
                  <a:pt x="10195" y="15536"/>
                  <a:pt x="10195" y="15528"/>
                </a:cubicBezTo>
              </a:path>
              <a:path w="10741" h="4639">
                <a:moveTo>
                  <a:pt x="9748" y="13866"/>
                </a:moveTo>
                <a:cubicBezTo>
                  <a:pt x="9748" y="13858"/>
                  <a:pt x="9748" y="13849"/>
                  <a:pt x="9748" y="13841"/>
                </a:cubicBezTo>
                <a:cubicBezTo>
                  <a:pt x="9817" y="13933"/>
                  <a:pt x="9773" y="14153"/>
                  <a:pt x="9773" y="14263"/>
                </a:cubicBezTo>
                <a:cubicBezTo>
                  <a:pt x="9773" y="14377"/>
                  <a:pt x="9786" y="14415"/>
                  <a:pt x="9798" y="14511"/>
                </a:cubicBezTo>
              </a:path>
              <a:path w="10741" h="4639">
                <a:moveTo>
                  <a:pt x="9847" y="15999"/>
                </a:moveTo>
                <a:cubicBezTo>
                  <a:pt x="9847" y="15943"/>
                  <a:pt x="9824" y="16292"/>
                  <a:pt x="9823" y="16297"/>
                </a:cubicBezTo>
                <a:cubicBezTo>
                  <a:pt x="9811" y="16409"/>
                  <a:pt x="9798" y="16507"/>
                  <a:pt x="9798" y="16619"/>
                </a:cubicBezTo>
              </a:path>
              <a:path w="10741" h="4639">
                <a:moveTo>
                  <a:pt x="10269" y="15974"/>
                </a:moveTo>
                <a:cubicBezTo>
                  <a:pt x="10219" y="16007"/>
                  <a:pt x="10244" y="16147"/>
                  <a:pt x="10244" y="16222"/>
                </a:cubicBezTo>
                <a:cubicBezTo>
                  <a:pt x="10244" y="16341"/>
                  <a:pt x="10220" y="16452"/>
                  <a:pt x="10220" y="16570"/>
                </a:cubicBezTo>
              </a:path>
              <a:path w="10741" h="4639">
                <a:moveTo>
                  <a:pt x="10517" y="15056"/>
                </a:moveTo>
                <a:cubicBezTo>
                  <a:pt x="10517" y="14971"/>
                  <a:pt x="10549" y="15172"/>
                  <a:pt x="10567" y="15255"/>
                </a:cubicBezTo>
                <a:cubicBezTo>
                  <a:pt x="10588" y="15348"/>
                  <a:pt x="10616" y="15457"/>
                  <a:pt x="10616" y="15553"/>
                </a:cubicBezTo>
              </a:path>
              <a:path w="10741" h="4639">
                <a:moveTo>
                  <a:pt x="10964" y="15007"/>
                </a:moveTo>
                <a:cubicBezTo>
                  <a:pt x="10964" y="14964"/>
                  <a:pt x="11034" y="15268"/>
                  <a:pt x="11038" y="15280"/>
                </a:cubicBezTo>
                <a:cubicBezTo>
                  <a:pt x="11066" y="15367"/>
                  <a:pt x="11118" y="15447"/>
                  <a:pt x="11137" y="15503"/>
                </a:cubicBezTo>
              </a:path>
              <a:path w="10741" h="4639">
                <a:moveTo>
                  <a:pt x="9550" y="14908"/>
                </a:moveTo>
                <a:cubicBezTo>
                  <a:pt x="9621" y="14908"/>
                  <a:pt x="9654" y="14915"/>
                  <a:pt x="9723" y="14932"/>
                </a:cubicBezTo>
                <a:cubicBezTo>
                  <a:pt x="9827" y="14958"/>
                  <a:pt x="9978" y="14973"/>
                  <a:pt x="10071" y="15032"/>
                </a:cubicBezTo>
                <a:cubicBezTo>
                  <a:pt x="10162" y="15090"/>
                  <a:pt x="10239" y="15138"/>
                  <a:pt x="10344" y="15180"/>
                </a:cubicBezTo>
                <a:cubicBezTo>
                  <a:pt x="10426" y="15213"/>
                  <a:pt x="10506" y="15285"/>
                  <a:pt x="10592" y="15304"/>
                </a:cubicBezTo>
                <a:cubicBezTo>
                  <a:pt x="10659" y="15319"/>
                  <a:pt x="10678" y="15323"/>
                  <a:pt x="10740" y="15354"/>
                </a:cubicBezTo>
                <a:cubicBezTo>
                  <a:pt x="10810" y="15389"/>
                  <a:pt x="10890" y="15418"/>
                  <a:pt x="10964" y="15453"/>
                </a:cubicBezTo>
                <a:cubicBezTo>
                  <a:pt x="11007" y="15473"/>
                  <a:pt x="11072" y="15515"/>
                  <a:pt x="11112" y="15528"/>
                </a:cubicBezTo>
                <a:cubicBezTo>
                  <a:pt x="11148" y="15539"/>
                  <a:pt x="11178" y="15538"/>
                  <a:pt x="11212" y="15553"/>
                </a:cubicBezTo>
                <a:cubicBezTo>
                  <a:pt x="11252" y="15570"/>
                  <a:pt x="11242" y="15572"/>
                  <a:pt x="11286" y="15577"/>
                </a:cubicBezTo>
              </a:path>
              <a:path w="10741" h="4639">
                <a:moveTo>
                  <a:pt x="11609" y="15081"/>
                </a:moveTo>
                <a:cubicBezTo>
                  <a:pt x="11609" y="14982"/>
                  <a:pt x="11609" y="15230"/>
                  <a:pt x="11609" y="15329"/>
                </a:cubicBezTo>
                <a:cubicBezTo>
                  <a:pt x="11609" y="15453"/>
                  <a:pt x="11609" y="15478"/>
                  <a:pt x="11609" y="15553"/>
                </a:cubicBezTo>
              </a:path>
              <a:path w="10741" h="4639">
                <a:moveTo>
                  <a:pt x="10666" y="15949"/>
                </a:moveTo>
                <a:cubicBezTo>
                  <a:pt x="10588" y="16085"/>
                  <a:pt x="10601" y="16287"/>
                  <a:pt x="10592" y="16446"/>
                </a:cubicBezTo>
                <a:cubicBezTo>
                  <a:pt x="10589" y="16502"/>
                  <a:pt x="10592" y="16562"/>
                  <a:pt x="10592" y="16619"/>
                </a:cubicBezTo>
              </a:path>
              <a:path w="10741" h="4639">
                <a:moveTo>
                  <a:pt x="9723" y="17165"/>
                </a:moveTo>
                <a:cubicBezTo>
                  <a:pt x="9714" y="17315"/>
                  <a:pt x="9699" y="17460"/>
                  <a:pt x="9699" y="17611"/>
                </a:cubicBezTo>
                <a:cubicBezTo>
                  <a:pt x="9699" y="17636"/>
                  <a:pt x="9699" y="17644"/>
                  <a:pt x="9723" y="17636"/>
                </a:cubicBezTo>
              </a:path>
              <a:path w="10741" h="4639">
                <a:moveTo>
                  <a:pt x="10840" y="16024"/>
                </a:moveTo>
                <a:cubicBezTo>
                  <a:pt x="10840" y="16117"/>
                  <a:pt x="10862" y="16198"/>
                  <a:pt x="10864" y="16297"/>
                </a:cubicBezTo>
                <a:cubicBezTo>
                  <a:pt x="10865" y="16343"/>
                  <a:pt x="10823" y="16531"/>
                  <a:pt x="10864" y="16545"/>
                </a:cubicBezTo>
              </a:path>
              <a:path w="10741" h="4639">
                <a:moveTo>
                  <a:pt x="10021" y="17190"/>
                </a:moveTo>
                <a:cubicBezTo>
                  <a:pt x="10021" y="17148"/>
                  <a:pt x="10013" y="17132"/>
                  <a:pt x="10046" y="17140"/>
                </a:cubicBezTo>
                <a:cubicBezTo>
                  <a:pt x="10117" y="17282"/>
                  <a:pt x="10084" y="17384"/>
                  <a:pt x="10071" y="17537"/>
                </a:cubicBezTo>
                <a:cubicBezTo>
                  <a:pt x="10071" y="17595"/>
                  <a:pt x="10071" y="17603"/>
                  <a:pt x="10071" y="17636"/>
                </a:cubicBezTo>
              </a:path>
              <a:path w="10741" h="4639">
                <a:moveTo>
                  <a:pt x="10517" y="17190"/>
                </a:moveTo>
                <a:cubicBezTo>
                  <a:pt x="10503" y="17331"/>
                  <a:pt x="10473" y="17468"/>
                  <a:pt x="10468" y="17611"/>
                </a:cubicBezTo>
                <a:cubicBezTo>
                  <a:pt x="10467" y="17653"/>
                  <a:pt x="10468" y="17728"/>
                  <a:pt x="10468" y="17686"/>
                </a:cubicBezTo>
              </a:path>
              <a:path w="10741" h="4639">
                <a:moveTo>
                  <a:pt x="11782" y="15106"/>
                </a:moveTo>
                <a:cubicBezTo>
                  <a:pt x="11782" y="15081"/>
                  <a:pt x="11782" y="15073"/>
                  <a:pt x="11807" y="15081"/>
                </a:cubicBezTo>
                <a:cubicBezTo>
                  <a:pt x="11807" y="15215"/>
                  <a:pt x="11787" y="15348"/>
                  <a:pt x="11757" y="15478"/>
                </a:cubicBezTo>
                <a:cubicBezTo>
                  <a:pt x="11749" y="15503"/>
                  <a:pt x="11741" y="15528"/>
                  <a:pt x="11733" y="15553"/>
                </a:cubicBezTo>
              </a:path>
              <a:path w="10741" h="4639">
                <a:moveTo>
                  <a:pt x="9674" y="15925"/>
                </a:moveTo>
                <a:cubicBezTo>
                  <a:pt x="9822" y="16056"/>
                  <a:pt x="9989" y="16115"/>
                  <a:pt x="10195" y="16197"/>
                </a:cubicBezTo>
                <a:cubicBezTo>
                  <a:pt x="10462" y="16304"/>
                  <a:pt x="10733" y="16399"/>
                  <a:pt x="10964" y="16570"/>
                </a:cubicBezTo>
                <a:cubicBezTo>
                  <a:pt x="10993" y="16592"/>
                  <a:pt x="11017" y="16648"/>
                  <a:pt x="11038" y="16619"/>
                </a:cubicBezTo>
                <a:cubicBezTo>
                  <a:pt x="11038" y="16565"/>
                  <a:pt x="11051" y="16531"/>
                  <a:pt x="11088" y="16495"/>
                </a:cubicBezTo>
              </a:path>
              <a:path w="10741" h="4639">
                <a:moveTo>
                  <a:pt x="11509" y="15974"/>
                </a:moveTo>
                <a:cubicBezTo>
                  <a:pt x="11493" y="15966"/>
                  <a:pt x="11476" y="15957"/>
                  <a:pt x="11460" y="15949"/>
                </a:cubicBezTo>
                <a:cubicBezTo>
                  <a:pt x="11460" y="16084"/>
                  <a:pt x="11478" y="16211"/>
                  <a:pt x="11485" y="16346"/>
                </a:cubicBezTo>
                <a:cubicBezTo>
                  <a:pt x="11490" y="16454"/>
                  <a:pt x="11485" y="16727"/>
                  <a:pt x="11485" y="16619"/>
                </a:cubicBezTo>
              </a:path>
              <a:path w="10741" h="4639">
                <a:moveTo>
                  <a:pt x="10815" y="17214"/>
                </a:moveTo>
                <a:cubicBezTo>
                  <a:pt x="10815" y="17386"/>
                  <a:pt x="10833" y="17631"/>
                  <a:pt x="10790" y="17760"/>
                </a:cubicBezTo>
                <a:cubicBezTo>
                  <a:pt x="10790" y="17785"/>
                  <a:pt x="10790" y="17793"/>
                  <a:pt x="10815" y="17785"/>
                </a:cubicBezTo>
              </a:path>
              <a:path w="10741" h="4639">
                <a:moveTo>
                  <a:pt x="11981" y="15156"/>
                </a:moveTo>
                <a:cubicBezTo>
                  <a:pt x="12003" y="15133"/>
                  <a:pt x="12011" y="15128"/>
                  <a:pt x="12005" y="15106"/>
                </a:cubicBezTo>
                <a:cubicBezTo>
                  <a:pt x="12025" y="15281"/>
                  <a:pt x="12021" y="15428"/>
                  <a:pt x="12005" y="15602"/>
                </a:cubicBezTo>
                <a:cubicBezTo>
                  <a:pt x="12005" y="15644"/>
                  <a:pt x="12005" y="15652"/>
                  <a:pt x="12005" y="15677"/>
                </a:cubicBezTo>
              </a:path>
              <a:path w="10741" h="4639">
                <a:moveTo>
                  <a:pt x="12254" y="15056"/>
                </a:moveTo>
                <a:cubicBezTo>
                  <a:pt x="12227" y="15192"/>
                  <a:pt x="12273" y="15354"/>
                  <a:pt x="12278" y="15503"/>
                </a:cubicBezTo>
                <a:cubicBezTo>
                  <a:pt x="12278" y="15548"/>
                  <a:pt x="12274" y="15561"/>
                  <a:pt x="12303" y="15577"/>
                </a:cubicBezTo>
              </a:path>
              <a:path w="10741" h="4639">
                <a:moveTo>
                  <a:pt x="14362" y="13816"/>
                </a:moveTo>
                <a:cubicBezTo>
                  <a:pt x="14334" y="13956"/>
                  <a:pt x="14321" y="14115"/>
                  <a:pt x="14312" y="14263"/>
                </a:cubicBezTo>
                <a:cubicBezTo>
                  <a:pt x="14309" y="14313"/>
                  <a:pt x="14312" y="14412"/>
                  <a:pt x="14312" y="14362"/>
                </a:cubicBezTo>
              </a:path>
              <a:path w="10741" h="4639">
                <a:moveTo>
                  <a:pt x="14536" y="14734"/>
                </a:moveTo>
                <a:cubicBezTo>
                  <a:pt x="14519" y="14639"/>
                  <a:pt x="14447" y="14514"/>
                  <a:pt x="14312" y="14536"/>
                </a:cubicBezTo>
                <a:cubicBezTo>
                  <a:pt x="14157" y="14562"/>
                  <a:pt x="14047" y="14821"/>
                  <a:pt x="14089" y="14957"/>
                </a:cubicBezTo>
                <a:cubicBezTo>
                  <a:pt x="14106" y="14965"/>
                  <a:pt x="14122" y="14974"/>
                  <a:pt x="14139" y="14982"/>
                </a:cubicBezTo>
                <a:cubicBezTo>
                  <a:pt x="14308" y="14961"/>
                  <a:pt x="14400" y="14911"/>
                  <a:pt x="14461" y="14734"/>
                </a:cubicBezTo>
                <a:cubicBezTo>
                  <a:pt x="14461" y="14693"/>
                  <a:pt x="14461" y="14685"/>
                  <a:pt x="14461" y="14660"/>
                </a:cubicBezTo>
                <a:cubicBezTo>
                  <a:pt x="14446" y="14833"/>
                  <a:pt x="14442" y="15009"/>
                  <a:pt x="14412" y="15180"/>
                </a:cubicBezTo>
                <a:cubicBezTo>
                  <a:pt x="14399" y="15251"/>
                  <a:pt x="14387" y="15269"/>
                  <a:pt x="14387" y="15329"/>
                </a:cubicBezTo>
              </a:path>
              <a:path w="10741" h="4639">
                <a:moveTo>
                  <a:pt x="14263" y="15701"/>
                </a:moveTo>
                <a:cubicBezTo>
                  <a:pt x="14233" y="15741"/>
                  <a:pt x="14191" y="15945"/>
                  <a:pt x="14163" y="16024"/>
                </a:cubicBezTo>
                <a:cubicBezTo>
                  <a:pt x="14131" y="16115"/>
                  <a:pt x="14140" y="16168"/>
                  <a:pt x="14163" y="16247"/>
                </a:cubicBezTo>
                <a:cubicBezTo>
                  <a:pt x="14189" y="16337"/>
                  <a:pt x="14354" y="16347"/>
                  <a:pt x="14436" y="16321"/>
                </a:cubicBezTo>
                <a:cubicBezTo>
                  <a:pt x="14519" y="16295"/>
                  <a:pt x="14618" y="16224"/>
                  <a:pt x="14660" y="16148"/>
                </a:cubicBezTo>
                <a:cubicBezTo>
                  <a:pt x="14686" y="16101"/>
                  <a:pt x="14684" y="16071"/>
                  <a:pt x="14684" y="16024"/>
                </a:cubicBezTo>
                <a:cubicBezTo>
                  <a:pt x="14618" y="16024"/>
                  <a:pt x="14601" y="15998"/>
                  <a:pt x="14536" y="16024"/>
                </a:cubicBezTo>
                <a:cubicBezTo>
                  <a:pt x="14469" y="16050"/>
                  <a:pt x="14446" y="16037"/>
                  <a:pt x="14412" y="16098"/>
                </a:cubicBezTo>
                <a:cubicBezTo>
                  <a:pt x="14382" y="16152"/>
                  <a:pt x="14387" y="16187"/>
                  <a:pt x="14387" y="16247"/>
                </a:cubicBezTo>
                <a:cubicBezTo>
                  <a:pt x="14387" y="16272"/>
                  <a:pt x="14387" y="16280"/>
                  <a:pt x="14387" y="16297"/>
                </a:cubicBezTo>
              </a:path>
              <a:path w="10741" h="4639">
                <a:moveTo>
                  <a:pt x="14263" y="16966"/>
                </a:moveTo>
                <a:cubicBezTo>
                  <a:pt x="14263" y="17085"/>
                  <a:pt x="14238" y="17205"/>
                  <a:pt x="14188" y="17314"/>
                </a:cubicBezTo>
                <a:cubicBezTo>
                  <a:pt x="14165" y="17336"/>
                  <a:pt x="14157" y="17341"/>
                  <a:pt x="14163" y="17363"/>
                </a:cubicBezTo>
                <a:cubicBezTo>
                  <a:pt x="14306" y="17355"/>
                  <a:pt x="14425" y="17325"/>
                  <a:pt x="14560" y="17289"/>
                </a:cubicBezTo>
                <a:cubicBezTo>
                  <a:pt x="14568" y="17289"/>
                  <a:pt x="14577" y="17289"/>
                  <a:pt x="14585" y="17289"/>
                </a:cubicBezTo>
              </a:path>
              <a:path w="10741" h="4639">
                <a:moveTo>
                  <a:pt x="14536" y="16892"/>
                </a:moveTo>
                <a:cubicBezTo>
                  <a:pt x="14536" y="17127"/>
                  <a:pt x="14529" y="17355"/>
                  <a:pt x="14511" y="17587"/>
                </a:cubicBezTo>
                <a:cubicBezTo>
                  <a:pt x="14507" y="17635"/>
                  <a:pt x="14511" y="17686"/>
                  <a:pt x="14511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00920" y="4197240"/>
            <a:ext cx="285840" cy="339840"/>
          </a:xfrm>
          <a:custGeom>
            <a:avLst/>
            <a:gdLst/>
            <a:ahLst/>
            <a:rect l="l" t="t" r="r" b="b"/>
            <a:pathLst>
              <a:path w="795" h="944">
                <a:moveTo>
                  <a:pt x="20241" y="11658"/>
                </a:moveTo>
                <a:cubicBezTo>
                  <a:pt x="20008" y="11890"/>
                  <a:pt x="19819" y="12198"/>
                  <a:pt x="19596" y="12452"/>
                </a:cubicBezTo>
                <a:cubicBezTo>
                  <a:pt x="19507" y="12554"/>
                  <a:pt x="19489" y="12559"/>
                  <a:pt x="19447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48680" y="4197240"/>
            <a:ext cx="215640" cy="285840"/>
          </a:xfrm>
          <a:custGeom>
            <a:avLst/>
            <a:gdLst/>
            <a:ahLst/>
            <a:rect l="l" t="t" r="r" b="b"/>
            <a:pathLst>
              <a:path w="597" h="795">
                <a:moveTo>
                  <a:pt x="21010" y="11658"/>
                </a:moveTo>
                <a:cubicBezTo>
                  <a:pt x="20844" y="11897"/>
                  <a:pt x="20664" y="12122"/>
                  <a:pt x="20489" y="12353"/>
                </a:cubicBezTo>
                <a:cubicBezTo>
                  <a:pt x="20449" y="12412"/>
                  <a:pt x="20445" y="12424"/>
                  <a:pt x="20414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78800" y="4214880"/>
            <a:ext cx="304560" cy="268200"/>
          </a:xfrm>
          <a:custGeom>
            <a:avLst/>
            <a:gdLst/>
            <a:ahLst/>
            <a:rect l="l" t="t" r="r" b="b"/>
            <a:pathLst>
              <a:path w="844" h="745">
                <a:moveTo>
                  <a:pt x="22175" y="11708"/>
                </a:moveTo>
                <a:cubicBezTo>
                  <a:pt x="21934" y="11844"/>
                  <a:pt x="21714" y="12066"/>
                  <a:pt x="21506" y="12254"/>
                </a:cubicBezTo>
                <a:cubicBezTo>
                  <a:pt x="21448" y="12306"/>
                  <a:pt x="21361" y="12381"/>
                  <a:pt x="21332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: Objective:  Students will create and interpret frequency 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 last frequency table you m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position was most popular amongst the basketball players? Expl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more players are guards than cen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71880" y="2803680"/>
            <a:ext cx="4411440" cy="598320"/>
          </a:xfrm>
          <a:custGeom>
            <a:avLst/>
            <a:gdLst/>
            <a:ahLst/>
            <a:rect l="l" t="t" r="r" b="b"/>
            <a:pathLst>
              <a:path w="12254" h="1663">
                <a:moveTo>
                  <a:pt x="8533" y="9451"/>
                </a:moveTo>
                <a:cubicBezTo>
                  <a:pt x="8626" y="9398"/>
                  <a:pt x="8750" y="9376"/>
                  <a:pt x="8855" y="9351"/>
                </a:cubicBezTo>
                <a:cubicBezTo>
                  <a:pt x="8863" y="9351"/>
                  <a:pt x="8872" y="9351"/>
                  <a:pt x="8880" y="9351"/>
                </a:cubicBezTo>
              </a:path>
              <a:path w="12254" h="1663">
                <a:moveTo>
                  <a:pt x="9847" y="8930"/>
                </a:moveTo>
                <a:lnTo>
                  <a:pt x="9847" y="8930"/>
                </a:lnTo>
                <a:lnTo>
                  <a:pt x="9847" y="8930"/>
                </a:lnTo>
              </a:path>
              <a:path w="12254" h="1663">
                <a:moveTo>
                  <a:pt x="9847" y="8930"/>
                </a:moveTo>
                <a:lnTo>
                  <a:pt x="9847" y="8930"/>
                </a:lnTo>
              </a:path>
              <a:path w="12254" h="1663">
                <a:moveTo>
                  <a:pt x="11881" y="8682"/>
                </a:moveTo>
                <a:cubicBezTo>
                  <a:pt x="11889" y="8937"/>
                  <a:pt x="11899" y="9182"/>
                  <a:pt x="11981" y="9426"/>
                </a:cubicBezTo>
                <a:cubicBezTo>
                  <a:pt x="11981" y="9418"/>
                  <a:pt x="11981" y="9409"/>
                  <a:pt x="11981" y="9401"/>
                </a:cubicBezTo>
              </a:path>
              <a:path w="12254" h="1663">
                <a:moveTo>
                  <a:pt x="11708" y="9079"/>
                </a:moveTo>
                <a:cubicBezTo>
                  <a:pt x="11898" y="9028"/>
                  <a:pt x="12084" y="8987"/>
                  <a:pt x="12278" y="8954"/>
                </a:cubicBezTo>
              </a:path>
              <a:path w="12254" h="1663">
                <a:moveTo>
                  <a:pt x="18083" y="8806"/>
                </a:moveTo>
                <a:cubicBezTo>
                  <a:pt x="18309" y="8790"/>
                  <a:pt x="18504" y="8779"/>
                  <a:pt x="18728" y="8806"/>
                </a:cubicBezTo>
              </a:path>
              <a:path w="12254" h="1663">
                <a:moveTo>
                  <a:pt x="20712" y="7789"/>
                </a:moveTo>
                <a:cubicBezTo>
                  <a:pt x="20549" y="8173"/>
                  <a:pt x="20353" y="8624"/>
                  <a:pt x="20389" y="9054"/>
                </a:cubicBezTo>
                <a:cubicBezTo>
                  <a:pt x="20409" y="9290"/>
                  <a:pt x="20585" y="9397"/>
                  <a:pt x="20786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12960" y="3125880"/>
            <a:ext cx="992160" cy="357120"/>
          </a:xfrm>
          <a:custGeom>
            <a:avLst/>
            <a:gdLst/>
            <a:ahLst/>
            <a:rect l="l" t="t" r="r" b="b"/>
            <a:pathLst>
              <a:path w="2755" h="993">
                <a:moveTo>
                  <a:pt x="5680" y="8830"/>
                </a:moveTo>
                <a:cubicBezTo>
                  <a:pt x="5680" y="8877"/>
                  <a:pt x="5605" y="8725"/>
                  <a:pt x="5556" y="8706"/>
                </a:cubicBezTo>
                <a:cubicBezTo>
                  <a:pt x="5243" y="8585"/>
                  <a:pt x="5062" y="8982"/>
                  <a:pt x="5035" y="9227"/>
                </a:cubicBezTo>
                <a:cubicBezTo>
                  <a:pt x="5003" y="9517"/>
                  <a:pt x="5259" y="9812"/>
                  <a:pt x="5556" y="9624"/>
                </a:cubicBezTo>
                <a:cubicBezTo>
                  <a:pt x="5671" y="9486"/>
                  <a:pt x="5710" y="9451"/>
                  <a:pt x="5705" y="9327"/>
                </a:cubicBezTo>
                <a:cubicBezTo>
                  <a:pt x="5568" y="9198"/>
                  <a:pt x="5343" y="9132"/>
                  <a:pt x="5184" y="9327"/>
                </a:cubicBezTo>
                <a:cubicBezTo>
                  <a:pt x="5201" y="9335"/>
                  <a:pt x="5217" y="9343"/>
                  <a:pt x="5234" y="9351"/>
                </a:cubicBezTo>
              </a:path>
              <a:path w="2755" h="993">
                <a:moveTo>
                  <a:pt x="5804" y="9351"/>
                </a:moveTo>
                <a:cubicBezTo>
                  <a:pt x="5827" y="9467"/>
                  <a:pt x="5834" y="9501"/>
                  <a:pt x="5854" y="9575"/>
                </a:cubicBezTo>
                <a:cubicBezTo>
                  <a:pt x="5826" y="9434"/>
                  <a:pt x="5802" y="9350"/>
                  <a:pt x="5904" y="9227"/>
                </a:cubicBezTo>
                <a:cubicBezTo>
                  <a:pt x="5980" y="9135"/>
                  <a:pt x="6097" y="9175"/>
                  <a:pt x="6176" y="9227"/>
                </a:cubicBezTo>
              </a:path>
              <a:path w="2755" h="993">
                <a:moveTo>
                  <a:pt x="5854" y="9203"/>
                </a:moveTo>
                <a:cubicBezTo>
                  <a:pt x="5840" y="9314"/>
                  <a:pt x="5785" y="9469"/>
                  <a:pt x="5854" y="9575"/>
                </a:cubicBezTo>
                <a:cubicBezTo>
                  <a:pt x="5871" y="9583"/>
                  <a:pt x="5887" y="9591"/>
                  <a:pt x="5904" y="9599"/>
                </a:cubicBezTo>
                <a:cubicBezTo>
                  <a:pt x="6028" y="9475"/>
                  <a:pt x="6070" y="9348"/>
                  <a:pt x="6127" y="9178"/>
                </a:cubicBezTo>
                <a:cubicBezTo>
                  <a:pt x="6144" y="9333"/>
                  <a:pt x="6186" y="9461"/>
                  <a:pt x="6300" y="9575"/>
                </a:cubicBezTo>
                <a:cubicBezTo>
                  <a:pt x="6403" y="9677"/>
                  <a:pt x="6450" y="9608"/>
                  <a:pt x="6548" y="9550"/>
                </a:cubicBezTo>
              </a:path>
              <a:path w="2755" h="993">
                <a:moveTo>
                  <a:pt x="6796" y="9401"/>
                </a:moveTo>
                <a:cubicBezTo>
                  <a:pt x="6780" y="9300"/>
                  <a:pt x="6702" y="9197"/>
                  <a:pt x="6573" y="9227"/>
                </a:cubicBezTo>
                <a:cubicBezTo>
                  <a:pt x="6418" y="9263"/>
                  <a:pt x="6260" y="9649"/>
                  <a:pt x="6499" y="9624"/>
                </a:cubicBezTo>
                <a:cubicBezTo>
                  <a:pt x="6598" y="9614"/>
                  <a:pt x="6697" y="9496"/>
                  <a:pt x="6697" y="9401"/>
                </a:cubicBezTo>
                <a:cubicBezTo>
                  <a:pt x="6734" y="9475"/>
                  <a:pt x="6814" y="9537"/>
                  <a:pt x="6896" y="9575"/>
                </a:cubicBezTo>
                <a:cubicBezTo>
                  <a:pt x="6953" y="9594"/>
                  <a:pt x="6960" y="9602"/>
                  <a:pt x="6995" y="9599"/>
                </a:cubicBezTo>
                <a:cubicBezTo>
                  <a:pt x="6995" y="9477"/>
                  <a:pt x="6958" y="9418"/>
                  <a:pt x="7020" y="9302"/>
                </a:cubicBezTo>
                <a:cubicBezTo>
                  <a:pt x="7102" y="9147"/>
                  <a:pt x="7273" y="9277"/>
                  <a:pt x="7367" y="9327"/>
                </a:cubicBezTo>
              </a:path>
              <a:path w="2755" h="993">
                <a:moveTo>
                  <a:pt x="7714" y="9302"/>
                </a:moveTo>
                <a:cubicBezTo>
                  <a:pt x="7589" y="9230"/>
                  <a:pt x="7437" y="9271"/>
                  <a:pt x="7367" y="9426"/>
                </a:cubicBezTo>
                <a:cubicBezTo>
                  <a:pt x="7367" y="9550"/>
                  <a:pt x="7367" y="9591"/>
                  <a:pt x="7441" y="9649"/>
                </a:cubicBezTo>
                <a:cubicBezTo>
                  <a:pt x="7739" y="9574"/>
                  <a:pt x="7794" y="9347"/>
                  <a:pt x="7764" y="9029"/>
                </a:cubicBezTo>
                <a:cubicBezTo>
                  <a:pt x="7747" y="8971"/>
                  <a:pt x="7731" y="8913"/>
                  <a:pt x="7714" y="8855"/>
                </a:cubicBezTo>
                <a:cubicBezTo>
                  <a:pt x="7639" y="8732"/>
                  <a:pt x="7723" y="9035"/>
                  <a:pt x="7739" y="9178"/>
                </a:cubicBezTo>
                <a:cubicBezTo>
                  <a:pt x="7767" y="9425"/>
                  <a:pt x="7905" y="9593"/>
                  <a:pt x="7640" y="9475"/>
                </a:cubicBezTo>
              </a:path>
              <a:path w="2755" h="993">
                <a:moveTo>
                  <a:pt x="5879" y="9203"/>
                </a:moveTo>
                <a:cubicBezTo>
                  <a:pt x="5829" y="9186"/>
                  <a:pt x="5860" y="9174"/>
                  <a:pt x="5829" y="9302"/>
                </a:cubicBezTo>
                <a:cubicBezTo>
                  <a:pt x="5801" y="9416"/>
                  <a:pt x="5800" y="9441"/>
                  <a:pt x="5879" y="9500"/>
                </a:cubicBezTo>
                <a:cubicBezTo>
                  <a:pt x="5958" y="9401"/>
                  <a:pt x="6000" y="9303"/>
                  <a:pt x="6028" y="9178"/>
                </a:cubicBezTo>
                <a:cubicBezTo>
                  <a:pt x="6028" y="9153"/>
                  <a:pt x="6028" y="9145"/>
                  <a:pt x="6028" y="9128"/>
                </a:cubicBezTo>
                <a:cubicBezTo>
                  <a:pt x="6058" y="9252"/>
                  <a:pt x="6111" y="9377"/>
                  <a:pt x="6152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3143160"/>
            <a:ext cx="893880" cy="455760"/>
          </a:xfrm>
          <a:custGeom>
            <a:avLst/>
            <a:gdLst/>
            <a:ahLst/>
            <a:rect l="l" t="t" r="r" b="b"/>
            <a:pathLst>
              <a:path w="2481" h="1266">
                <a:moveTo>
                  <a:pt x="9327" y="8756"/>
                </a:moveTo>
                <a:cubicBezTo>
                  <a:pt x="9287" y="8675"/>
                  <a:pt x="9334" y="8866"/>
                  <a:pt x="9351" y="8954"/>
                </a:cubicBezTo>
                <a:cubicBezTo>
                  <a:pt x="9391" y="9160"/>
                  <a:pt x="9425" y="9367"/>
                  <a:pt x="9451" y="9575"/>
                </a:cubicBezTo>
                <a:cubicBezTo>
                  <a:pt x="9436" y="9471"/>
                  <a:pt x="9409" y="9299"/>
                  <a:pt x="9475" y="9203"/>
                </a:cubicBezTo>
                <a:cubicBezTo>
                  <a:pt x="9642" y="8960"/>
                  <a:pt x="9737" y="9288"/>
                  <a:pt x="9773" y="9401"/>
                </a:cubicBezTo>
                <a:cubicBezTo>
                  <a:pt x="9835" y="9597"/>
                  <a:pt x="9785" y="9755"/>
                  <a:pt x="9872" y="9475"/>
                </a:cubicBezTo>
              </a:path>
              <a:path w="2481" h="1266">
                <a:moveTo>
                  <a:pt x="9922" y="9252"/>
                </a:moveTo>
                <a:cubicBezTo>
                  <a:pt x="9929" y="9275"/>
                  <a:pt x="9996" y="9656"/>
                  <a:pt x="9996" y="9451"/>
                </a:cubicBezTo>
              </a:path>
              <a:path w="2481" h="1266">
                <a:moveTo>
                  <a:pt x="10517" y="9277"/>
                </a:moveTo>
                <a:cubicBezTo>
                  <a:pt x="10407" y="9186"/>
                  <a:pt x="10287" y="9229"/>
                  <a:pt x="10220" y="9376"/>
                </a:cubicBezTo>
                <a:cubicBezTo>
                  <a:pt x="10220" y="9409"/>
                  <a:pt x="10220" y="9442"/>
                  <a:pt x="10220" y="9475"/>
                </a:cubicBezTo>
                <a:cubicBezTo>
                  <a:pt x="10437" y="9530"/>
                  <a:pt x="10452" y="9446"/>
                  <a:pt x="10492" y="9227"/>
                </a:cubicBezTo>
                <a:cubicBezTo>
                  <a:pt x="10492" y="9203"/>
                  <a:pt x="10492" y="9195"/>
                  <a:pt x="10492" y="9227"/>
                </a:cubicBezTo>
                <a:cubicBezTo>
                  <a:pt x="10545" y="9459"/>
                  <a:pt x="10680" y="9812"/>
                  <a:pt x="10418" y="9971"/>
                </a:cubicBezTo>
                <a:cubicBezTo>
                  <a:pt x="10141" y="10140"/>
                  <a:pt x="10211" y="9875"/>
                  <a:pt x="10220" y="9748"/>
                </a:cubicBezTo>
              </a:path>
              <a:path w="2481" h="1266">
                <a:moveTo>
                  <a:pt x="10592" y="8781"/>
                </a:moveTo>
                <a:cubicBezTo>
                  <a:pt x="10653" y="9018"/>
                  <a:pt x="10666" y="9299"/>
                  <a:pt x="10740" y="9525"/>
                </a:cubicBezTo>
                <a:cubicBezTo>
                  <a:pt x="10740" y="9500"/>
                  <a:pt x="10740" y="9476"/>
                  <a:pt x="10740" y="9451"/>
                </a:cubicBezTo>
                <a:cubicBezTo>
                  <a:pt x="10749" y="9351"/>
                  <a:pt x="10756" y="8987"/>
                  <a:pt x="10964" y="9178"/>
                </a:cubicBezTo>
                <a:cubicBezTo>
                  <a:pt x="11096" y="9300"/>
                  <a:pt x="11080" y="9440"/>
                  <a:pt x="11088" y="9599"/>
                </a:cubicBezTo>
              </a:path>
              <a:path w="2481" h="1266">
                <a:moveTo>
                  <a:pt x="11212" y="9277"/>
                </a:moveTo>
                <a:cubicBezTo>
                  <a:pt x="11286" y="9209"/>
                  <a:pt x="11399" y="9142"/>
                  <a:pt x="11435" y="9054"/>
                </a:cubicBezTo>
                <a:cubicBezTo>
                  <a:pt x="11259" y="9092"/>
                  <a:pt x="11081" y="9204"/>
                  <a:pt x="11137" y="9426"/>
                </a:cubicBezTo>
                <a:cubicBezTo>
                  <a:pt x="11202" y="9684"/>
                  <a:pt x="11434" y="9428"/>
                  <a:pt x="11509" y="9376"/>
                </a:cubicBezTo>
              </a:path>
              <a:path w="2481" h="1266">
                <a:moveTo>
                  <a:pt x="11658" y="9054"/>
                </a:moveTo>
                <a:cubicBezTo>
                  <a:pt x="11554" y="9098"/>
                  <a:pt x="11546" y="9067"/>
                  <a:pt x="11509" y="9178"/>
                </a:cubicBezTo>
                <a:cubicBezTo>
                  <a:pt x="11609" y="9235"/>
                  <a:pt x="11693" y="9281"/>
                  <a:pt x="11782" y="9351"/>
                </a:cubicBezTo>
                <a:cubicBezTo>
                  <a:pt x="11676" y="9518"/>
                  <a:pt x="11573" y="9507"/>
                  <a:pt x="11410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9640" y="3036960"/>
            <a:ext cx="2098440" cy="561960"/>
          </a:xfrm>
          <a:custGeom>
            <a:avLst/>
            <a:gdLst/>
            <a:ahLst/>
            <a:rect l="l" t="t" r="r" b="b"/>
            <a:pathLst>
              <a:path w="5830" h="1563">
                <a:moveTo>
                  <a:pt x="13519" y="8682"/>
                </a:moveTo>
                <a:cubicBezTo>
                  <a:pt x="13332" y="8588"/>
                  <a:pt x="13097" y="8546"/>
                  <a:pt x="13022" y="8830"/>
                </a:cubicBezTo>
                <a:cubicBezTo>
                  <a:pt x="12965" y="9046"/>
                  <a:pt x="13108" y="9298"/>
                  <a:pt x="13171" y="9500"/>
                </a:cubicBezTo>
              </a:path>
              <a:path w="5830" h="1563">
                <a:moveTo>
                  <a:pt x="12750" y="9103"/>
                </a:moveTo>
                <a:cubicBezTo>
                  <a:pt x="12949" y="9119"/>
                  <a:pt x="13386" y="9042"/>
                  <a:pt x="13543" y="9178"/>
                </a:cubicBezTo>
                <a:cubicBezTo>
                  <a:pt x="13617" y="9242"/>
                  <a:pt x="13596" y="9369"/>
                  <a:pt x="13618" y="9451"/>
                </a:cubicBezTo>
                <a:cubicBezTo>
                  <a:pt x="13618" y="9338"/>
                  <a:pt x="13625" y="9182"/>
                  <a:pt x="13667" y="9079"/>
                </a:cubicBezTo>
                <a:cubicBezTo>
                  <a:pt x="13709" y="9037"/>
                  <a:pt x="13717" y="9029"/>
                  <a:pt x="13742" y="9004"/>
                </a:cubicBezTo>
              </a:path>
              <a:path w="5830" h="1563">
                <a:moveTo>
                  <a:pt x="13915" y="9178"/>
                </a:moveTo>
                <a:cubicBezTo>
                  <a:pt x="14009" y="9118"/>
                  <a:pt x="14030" y="9133"/>
                  <a:pt x="14064" y="9029"/>
                </a:cubicBezTo>
                <a:cubicBezTo>
                  <a:pt x="13942" y="9057"/>
                  <a:pt x="13740" y="9181"/>
                  <a:pt x="13866" y="9351"/>
                </a:cubicBezTo>
                <a:cubicBezTo>
                  <a:pt x="14001" y="9533"/>
                  <a:pt x="14264" y="9292"/>
                  <a:pt x="14387" y="9227"/>
                </a:cubicBezTo>
              </a:path>
              <a:path w="5830" h="1563">
                <a:moveTo>
                  <a:pt x="14511" y="8979"/>
                </a:moveTo>
                <a:cubicBezTo>
                  <a:pt x="14443" y="9033"/>
                  <a:pt x="14220" y="9235"/>
                  <a:pt x="14387" y="9327"/>
                </a:cubicBezTo>
                <a:cubicBezTo>
                  <a:pt x="14501" y="9390"/>
                  <a:pt x="14567" y="9167"/>
                  <a:pt x="14585" y="9103"/>
                </a:cubicBezTo>
                <a:cubicBezTo>
                  <a:pt x="14585" y="9303"/>
                  <a:pt x="14546" y="9499"/>
                  <a:pt x="14536" y="9699"/>
                </a:cubicBezTo>
                <a:cubicBezTo>
                  <a:pt x="14536" y="9865"/>
                  <a:pt x="14528" y="9900"/>
                  <a:pt x="14560" y="9996"/>
                </a:cubicBezTo>
                <a:cubicBezTo>
                  <a:pt x="14679" y="9858"/>
                  <a:pt x="14736" y="9703"/>
                  <a:pt x="14635" y="9525"/>
                </a:cubicBezTo>
                <a:cubicBezTo>
                  <a:pt x="14519" y="9409"/>
                  <a:pt x="14486" y="9376"/>
                  <a:pt x="14412" y="9302"/>
                </a:cubicBezTo>
              </a:path>
              <a:path w="5830" h="1563">
                <a:moveTo>
                  <a:pt x="14759" y="9079"/>
                </a:moveTo>
                <a:cubicBezTo>
                  <a:pt x="14759" y="9023"/>
                  <a:pt x="14807" y="9291"/>
                  <a:pt x="14833" y="9327"/>
                </a:cubicBezTo>
                <a:cubicBezTo>
                  <a:pt x="14858" y="9343"/>
                  <a:pt x="14883" y="9360"/>
                  <a:pt x="14908" y="9376"/>
                </a:cubicBezTo>
                <a:cubicBezTo>
                  <a:pt x="15066" y="9289"/>
                  <a:pt x="15040" y="9194"/>
                  <a:pt x="15081" y="9029"/>
                </a:cubicBezTo>
                <a:cubicBezTo>
                  <a:pt x="15115" y="8893"/>
                  <a:pt x="15106" y="9301"/>
                  <a:pt x="15205" y="9401"/>
                </a:cubicBezTo>
              </a:path>
              <a:path w="5830" h="1563">
                <a:moveTo>
                  <a:pt x="15379" y="9128"/>
                </a:moveTo>
                <a:cubicBezTo>
                  <a:pt x="15452" y="9116"/>
                  <a:pt x="15517" y="9094"/>
                  <a:pt x="15577" y="9054"/>
                </a:cubicBezTo>
                <a:cubicBezTo>
                  <a:pt x="15503" y="8963"/>
                  <a:pt x="15370" y="9030"/>
                  <a:pt x="15329" y="9153"/>
                </a:cubicBezTo>
                <a:cubicBezTo>
                  <a:pt x="15243" y="9409"/>
                  <a:pt x="15552" y="9402"/>
                  <a:pt x="15677" y="9277"/>
                </a:cubicBezTo>
                <a:cubicBezTo>
                  <a:pt x="15810" y="9144"/>
                  <a:pt x="15755" y="9051"/>
                  <a:pt x="15726" y="9277"/>
                </a:cubicBezTo>
                <a:cubicBezTo>
                  <a:pt x="15726" y="9302"/>
                  <a:pt x="15726" y="9326"/>
                  <a:pt x="15726" y="9351"/>
                </a:cubicBezTo>
                <a:cubicBezTo>
                  <a:pt x="15749" y="9239"/>
                  <a:pt x="15758" y="9114"/>
                  <a:pt x="15850" y="9029"/>
                </a:cubicBezTo>
                <a:cubicBezTo>
                  <a:pt x="16001" y="8890"/>
                  <a:pt x="16108" y="9152"/>
                  <a:pt x="16123" y="9252"/>
                </a:cubicBezTo>
                <a:cubicBezTo>
                  <a:pt x="16149" y="9423"/>
                  <a:pt x="16095" y="9404"/>
                  <a:pt x="16297" y="9203"/>
                </a:cubicBezTo>
              </a:path>
              <a:path w="5830" h="1563">
                <a:moveTo>
                  <a:pt x="16470" y="9029"/>
                </a:moveTo>
                <a:cubicBezTo>
                  <a:pt x="16331" y="8908"/>
                  <a:pt x="16250" y="9062"/>
                  <a:pt x="16247" y="9227"/>
                </a:cubicBezTo>
                <a:cubicBezTo>
                  <a:pt x="16240" y="9570"/>
                  <a:pt x="16588" y="9313"/>
                  <a:pt x="16694" y="9227"/>
                </a:cubicBezTo>
              </a:path>
              <a:path w="5830" h="1563">
                <a:moveTo>
                  <a:pt x="16669" y="9079"/>
                </a:moveTo>
                <a:cubicBezTo>
                  <a:pt x="16675" y="9192"/>
                  <a:pt x="16690" y="9514"/>
                  <a:pt x="16892" y="9327"/>
                </a:cubicBezTo>
                <a:cubicBezTo>
                  <a:pt x="16944" y="9223"/>
                  <a:pt x="16962" y="9185"/>
                  <a:pt x="16966" y="9103"/>
                </a:cubicBezTo>
                <a:cubicBezTo>
                  <a:pt x="16974" y="9095"/>
                  <a:pt x="16983" y="9087"/>
                  <a:pt x="16991" y="9079"/>
                </a:cubicBezTo>
                <a:cubicBezTo>
                  <a:pt x="17035" y="9314"/>
                  <a:pt x="17133" y="9559"/>
                  <a:pt x="16966" y="9773"/>
                </a:cubicBezTo>
                <a:cubicBezTo>
                  <a:pt x="16753" y="10046"/>
                  <a:pt x="16543" y="9803"/>
                  <a:pt x="16446" y="9624"/>
                </a:cubicBezTo>
              </a:path>
              <a:path w="5830" h="1563">
                <a:moveTo>
                  <a:pt x="17810" y="8954"/>
                </a:moveTo>
                <a:cubicBezTo>
                  <a:pt x="17834" y="8954"/>
                  <a:pt x="17553" y="9072"/>
                  <a:pt x="17512" y="9153"/>
                </a:cubicBezTo>
                <a:cubicBezTo>
                  <a:pt x="17512" y="9194"/>
                  <a:pt x="17512" y="9236"/>
                  <a:pt x="17512" y="9277"/>
                </a:cubicBezTo>
                <a:cubicBezTo>
                  <a:pt x="17634" y="9311"/>
                  <a:pt x="17977" y="9333"/>
                  <a:pt x="17835" y="9079"/>
                </a:cubicBezTo>
                <a:cubicBezTo>
                  <a:pt x="17750" y="9015"/>
                  <a:pt x="17729" y="9003"/>
                  <a:pt x="17686" y="8954"/>
                </a:cubicBezTo>
              </a:path>
              <a:path w="5830" h="1563">
                <a:moveTo>
                  <a:pt x="18579" y="8458"/>
                </a:moveTo>
                <a:cubicBezTo>
                  <a:pt x="18355" y="8404"/>
                  <a:pt x="18275" y="8552"/>
                  <a:pt x="18256" y="8781"/>
                </a:cubicBezTo>
                <a:cubicBezTo>
                  <a:pt x="18243" y="8931"/>
                  <a:pt x="18331" y="9037"/>
                  <a:pt x="18331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46920" y="3009960"/>
            <a:ext cx="196920" cy="312840"/>
          </a:xfrm>
          <a:custGeom>
            <a:avLst/>
            <a:gdLst/>
            <a:ahLst/>
            <a:rect l="l" t="t" r="r" b="b"/>
            <a:pathLst>
              <a:path w="547" h="869">
                <a:moveTo>
                  <a:pt x="19844" y="8533"/>
                </a:moveTo>
                <a:cubicBezTo>
                  <a:pt x="19750" y="8412"/>
                  <a:pt x="19567" y="8276"/>
                  <a:pt x="19397" y="8384"/>
                </a:cubicBezTo>
                <a:cubicBezTo>
                  <a:pt x="19170" y="8528"/>
                  <a:pt x="19319" y="8845"/>
                  <a:pt x="19571" y="8756"/>
                </a:cubicBezTo>
                <a:cubicBezTo>
                  <a:pt x="19674" y="8720"/>
                  <a:pt x="19752" y="8584"/>
                  <a:pt x="19819" y="8508"/>
                </a:cubicBezTo>
                <a:cubicBezTo>
                  <a:pt x="19819" y="8716"/>
                  <a:pt x="19831" y="8922"/>
                  <a:pt x="19794" y="9128"/>
                </a:cubicBezTo>
                <a:cubicBezTo>
                  <a:pt x="19775" y="9186"/>
                  <a:pt x="19766" y="9192"/>
                  <a:pt x="1976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83320" y="2847960"/>
            <a:ext cx="1589400" cy="733320"/>
          </a:xfrm>
          <a:custGeom>
            <a:avLst/>
            <a:gdLst/>
            <a:ahLst/>
            <a:rect l="l" t="t" r="r" b="b"/>
            <a:pathLst>
              <a:path w="4417" h="2035">
                <a:moveTo>
                  <a:pt x="21134" y="8558"/>
                </a:moveTo>
                <a:cubicBezTo>
                  <a:pt x="21187" y="8576"/>
                  <a:pt x="21168" y="8523"/>
                  <a:pt x="21134" y="8434"/>
                </a:cubicBezTo>
                <a:cubicBezTo>
                  <a:pt x="21117" y="8401"/>
                  <a:pt x="21101" y="8367"/>
                  <a:pt x="21084" y="8334"/>
                </a:cubicBezTo>
                <a:cubicBezTo>
                  <a:pt x="20904" y="8368"/>
                  <a:pt x="20723" y="8502"/>
                  <a:pt x="20786" y="8731"/>
                </a:cubicBezTo>
                <a:cubicBezTo>
                  <a:pt x="20847" y="8951"/>
                  <a:pt x="21071" y="8721"/>
                  <a:pt x="21109" y="8632"/>
                </a:cubicBezTo>
                <a:cubicBezTo>
                  <a:pt x="21117" y="8599"/>
                  <a:pt x="21126" y="8566"/>
                  <a:pt x="21134" y="8533"/>
                </a:cubicBezTo>
                <a:cubicBezTo>
                  <a:pt x="21142" y="8516"/>
                  <a:pt x="21150" y="8500"/>
                  <a:pt x="21158" y="8483"/>
                </a:cubicBezTo>
                <a:cubicBezTo>
                  <a:pt x="21158" y="8675"/>
                  <a:pt x="21167" y="8870"/>
                  <a:pt x="21134" y="9054"/>
                </a:cubicBezTo>
                <a:cubicBezTo>
                  <a:pt x="21134" y="9062"/>
                  <a:pt x="21134" y="9071"/>
                  <a:pt x="21134" y="9079"/>
                </a:cubicBezTo>
              </a:path>
              <a:path w="4417" h="2035">
                <a:moveTo>
                  <a:pt x="21506" y="8954"/>
                </a:moveTo>
                <a:cubicBezTo>
                  <a:pt x="21522" y="9072"/>
                  <a:pt x="21671" y="9097"/>
                  <a:pt x="21779" y="9128"/>
                </a:cubicBezTo>
                <a:cubicBezTo>
                  <a:pt x="21979" y="9185"/>
                  <a:pt x="22122" y="9154"/>
                  <a:pt x="22299" y="9079"/>
                </a:cubicBezTo>
                <a:cubicBezTo>
                  <a:pt x="22476" y="9004"/>
                  <a:pt x="22568" y="8877"/>
                  <a:pt x="22597" y="8682"/>
                </a:cubicBezTo>
                <a:cubicBezTo>
                  <a:pt x="22620" y="8527"/>
                  <a:pt x="22545" y="8417"/>
                  <a:pt x="22448" y="8310"/>
                </a:cubicBezTo>
                <a:cubicBezTo>
                  <a:pt x="22362" y="8215"/>
                  <a:pt x="22245" y="8192"/>
                  <a:pt x="22126" y="8161"/>
                </a:cubicBezTo>
                <a:cubicBezTo>
                  <a:pt x="21994" y="8127"/>
                  <a:pt x="21905" y="8135"/>
                  <a:pt x="21779" y="8186"/>
                </a:cubicBezTo>
                <a:cubicBezTo>
                  <a:pt x="21657" y="8235"/>
                  <a:pt x="21603" y="8369"/>
                  <a:pt x="21555" y="8483"/>
                </a:cubicBezTo>
                <a:cubicBezTo>
                  <a:pt x="21505" y="8602"/>
                  <a:pt x="21522" y="8719"/>
                  <a:pt x="21580" y="8830"/>
                </a:cubicBezTo>
                <a:cubicBezTo>
                  <a:pt x="21618" y="8902"/>
                  <a:pt x="21670" y="8999"/>
                  <a:pt x="21754" y="9029"/>
                </a:cubicBezTo>
                <a:cubicBezTo>
                  <a:pt x="21795" y="9029"/>
                  <a:pt x="21803" y="9029"/>
                  <a:pt x="21828" y="9029"/>
                </a:cubicBezTo>
              </a:path>
              <a:path w="4417" h="2035">
                <a:moveTo>
                  <a:pt x="22920" y="8632"/>
                </a:moveTo>
                <a:cubicBezTo>
                  <a:pt x="22897" y="8747"/>
                  <a:pt x="22785" y="8832"/>
                  <a:pt x="22771" y="8954"/>
                </a:cubicBezTo>
                <a:cubicBezTo>
                  <a:pt x="22779" y="8979"/>
                  <a:pt x="22788" y="9004"/>
                  <a:pt x="22796" y="9029"/>
                </a:cubicBezTo>
                <a:cubicBezTo>
                  <a:pt x="22946" y="9042"/>
                  <a:pt x="23010" y="8978"/>
                  <a:pt x="22994" y="8806"/>
                </a:cubicBezTo>
                <a:cubicBezTo>
                  <a:pt x="22987" y="8732"/>
                  <a:pt x="22933" y="8710"/>
                  <a:pt x="22895" y="8657"/>
                </a:cubicBezTo>
              </a:path>
              <a:path w="4417" h="2035">
                <a:moveTo>
                  <a:pt x="23168" y="8260"/>
                </a:moveTo>
                <a:cubicBezTo>
                  <a:pt x="23235" y="8399"/>
                  <a:pt x="23253" y="8620"/>
                  <a:pt x="23267" y="8781"/>
                </a:cubicBezTo>
                <a:cubicBezTo>
                  <a:pt x="23267" y="8872"/>
                  <a:pt x="23267" y="8880"/>
                  <a:pt x="23267" y="8930"/>
                </a:cubicBezTo>
              </a:path>
              <a:path w="4417" h="2035">
                <a:moveTo>
                  <a:pt x="22994" y="8657"/>
                </a:moveTo>
                <a:cubicBezTo>
                  <a:pt x="23148" y="8671"/>
                  <a:pt x="23285" y="8701"/>
                  <a:pt x="23440" y="8657"/>
                </a:cubicBezTo>
                <a:cubicBezTo>
                  <a:pt x="23481" y="8640"/>
                  <a:pt x="23523" y="8624"/>
                  <a:pt x="23564" y="8607"/>
                </a:cubicBezTo>
              </a:path>
              <a:path w="4417" h="2035">
                <a:moveTo>
                  <a:pt x="23515" y="8285"/>
                </a:moveTo>
                <a:cubicBezTo>
                  <a:pt x="23554" y="8466"/>
                  <a:pt x="23585" y="8656"/>
                  <a:pt x="23639" y="8830"/>
                </a:cubicBezTo>
                <a:cubicBezTo>
                  <a:pt x="23639" y="8729"/>
                  <a:pt x="23679" y="8590"/>
                  <a:pt x="23738" y="8508"/>
                </a:cubicBezTo>
                <a:cubicBezTo>
                  <a:pt x="23755" y="8500"/>
                  <a:pt x="23771" y="8491"/>
                  <a:pt x="23788" y="8483"/>
                </a:cubicBezTo>
                <a:cubicBezTo>
                  <a:pt x="23923" y="8574"/>
                  <a:pt x="23973" y="8688"/>
                  <a:pt x="24011" y="8855"/>
                </a:cubicBezTo>
                <a:cubicBezTo>
                  <a:pt x="24011" y="8888"/>
                  <a:pt x="24011" y="8888"/>
                  <a:pt x="24011" y="8830"/>
                </a:cubicBezTo>
              </a:path>
              <a:path w="4417" h="2035">
                <a:moveTo>
                  <a:pt x="24085" y="8607"/>
                </a:moveTo>
                <a:cubicBezTo>
                  <a:pt x="24137" y="8607"/>
                  <a:pt x="24148" y="8596"/>
                  <a:pt x="24185" y="8558"/>
                </a:cubicBezTo>
                <a:cubicBezTo>
                  <a:pt x="24248" y="8494"/>
                  <a:pt x="24190" y="8465"/>
                  <a:pt x="24135" y="8434"/>
                </a:cubicBezTo>
                <a:cubicBezTo>
                  <a:pt x="24028" y="8519"/>
                  <a:pt x="24012" y="8676"/>
                  <a:pt x="24085" y="8806"/>
                </a:cubicBezTo>
                <a:cubicBezTo>
                  <a:pt x="24165" y="8949"/>
                  <a:pt x="24226" y="8867"/>
                  <a:pt x="24309" y="8806"/>
                </a:cubicBezTo>
              </a:path>
              <a:path w="4417" h="2035">
                <a:moveTo>
                  <a:pt x="24408" y="8607"/>
                </a:moveTo>
                <a:cubicBezTo>
                  <a:pt x="24408" y="8672"/>
                  <a:pt x="24419" y="8795"/>
                  <a:pt x="24408" y="8731"/>
                </a:cubicBezTo>
                <a:cubicBezTo>
                  <a:pt x="24390" y="8624"/>
                  <a:pt x="24423" y="8463"/>
                  <a:pt x="24532" y="8409"/>
                </a:cubicBezTo>
                <a:cubicBezTo>
                  <a:pt x="24613" y="8369"/>
                  <a:pt x="24641" y="8414"/>
                  <a:pt x="24656" y="8458"/>
                </a:cubicBezTo>
              </a:path>
              <a:path w="4417" h="2035">
                <a:moveTo>
                  <a:pt x="22696" y="9475"/>
                </a:moveTo>
                <a:cubicBezTo>
                  <a:pt x="22730" y="9576"/>
                  <a:pt x="22757" y="9669"/>
                  <a:pt x="22771" y="9773"/>
                </a:cubicBezTo>
                <a:cubicBezTo>
                  <a:pt x="22707" y="9582"/>
                  <a:pt x="22688" y="9507"/>
                  <a:pt x="22870" y="9401"/>
                </a:cubicBezTo>
                <a:cubicBezTo>
                  <a:pt x="22995" y="9526"/>
                  <a:pt x="23031" y="9619"/>
                  <a:pt x="23044" y="9798"/>
                </a:cubicBezTo>
              </a:path>
              <a:path w="4417" h="2035">
                <a:moveTo>
                  <a:pt x="23168" y="9426"/>
                </a:moveTo>
                <a:cubicBezTo>
                  <a:pt x="23174" y="9507"/>
                  <a:pt x="23164" y="9717"/>
                  <a:pt x="23292" y="9723"/>
                </a:cubicBezTo>
                <a:cubicBezTo>
                  <a:pt x="23415" y="9729"/>
                  <a:pt x="23428" y="9559"/>
                  <a:pt x="23440" y="9475"/>
                </a:cubicBezTo>
                <a:cubicBezTo>
                  <a:pt x="23443" y="9519"/>
                  <a:pt x="23448" y="9831"/>
                  <a:pt x="23564" y="9748"/>
                </a:cubicBezTo>
                <a:cubicBezTo>
                  <a:pt x="23651" y="9685"/>
                  <a:pt x="23629" y="9580"/>
                  <a:pt x="23614" y="9500"/>
                </a:cubicBezTo>
                <a:cubicBezTo>
                  <a:pt x="23634" y="9583"/>
                  <a:pt x="23653" y="9664"/>
                  <a:pt x="23664" y="9748"/>
                </a:cubicBezTo>
                <a:cubicBezTo>
                  <a:pt x="23664" y="9669"/>
                  <a:pt x="23654" y="9519"/>
                  <a:pt x="23738" y="9475"/>
                </a:cubicBezTo>
                <a:cubicBezTo>
                  <a:pt x="23810" y="9437"/>
                  <a:pt x="23902" y="9689"/>
                  <a:pt x="23912" y="9723"/>
                </a:cubicBezTo>
                <a:cubicBezTo>
                  <a:pt x="23904" y="9695"/>
                  <a:pt x="23852" y="9372"/>
                  <a:pt x="23961" y="9426"/>
                </a:cubicBezTo>
                <a:cubicBezTo>
                  <a:pt x="24068" y="9479"/>
                  <a:pt x="24082" y="9672"/>
                  <a:pt x="24110" y="9773"/>
                </a:cubicBezTo>
                <a:cubicBezTo>
                  <a:pt x="24110" y="9682"/>
                  <a:pt x="24110" y="9624"/>
                  <a:pt x="24110" y="9550"/>
                </a:cubicBezTo>
              </a:path>
              <a:path w="4417" h="2035">
                <a:moveTo>
                  <a:pt x="24036" y="9103"/>
                </a:moveTo>
                <a:cubicBezTo>
                  <a:pt x="24074" y="9275"/>
                  <a:pt x="24131" y="9456"/>
                  <a:pt x="24185" y="9624"/>
                </a:cubicBezTo>
                <a:cubicBezTo>
                  <a:pt x="24193" y="9641"/>
                  <a:pt x="24201" y="9657"/>
                  <a:pt x="24209" y="9674"/>
                </a:cubicBezTo>
                <a:cubicBezTo>
                  <a:pt x="24198" y="9646"/>
                  <a:pt x="24110" y="9347"/>
                  <a:pt x="24234" y="9426"/>
                </a:cubicBezTo>
                <a:cubicBezTo>
                  <a:pt x="24362" y="9508"/>
                  <a:pt x="24313" y="9686"/>
                  <a:pt x="24209" y="9748"/>
                </a:cubicBezTo>
                <a:cubicBezTo>
                  <a:pt x="24099" y="9814"/>
                  <a:pt x="24126" y="9687"/>
                  <a:pt x="24110" y="9599"/>
                </a:cubicBezTo>
              </a:path>
              <a:path w="4417" h="2035">
                <a:moveTo>
                  <a:pt x="24383" y="9426"/>
                </a:moveTo>
                <a:cubicBezTo>
                  <a:pt x="24471" y="9419"/>
                  <a:pt x="24519" y="9427"/>
                  <a:pt x="24557" y="9351"/>
                </a:cubicBezTo>
                <a:cubicBezTo>
                  <a:pt x="24483" y="9245"/>
                  <a:pt x="24410" y="9488"/>
                  <a:pt x="24408" y="9550"/>
                </a:cubicBezTo>
                <a:cubicBezTo>
                  <a:pt x="24403" y="9770"/>
                  <a:pt x="24586" y="9732"/>
                  <a:pt x="24681" y="9599"/>
                </a:cubicBezTo>
                <a:cubicBezTo>
                  <a:pt x="24701" y="9538"/>
                  <a:pt x="24699" y="9524"/>
                  <a:pt x="24730" y="9500"/>
                </a:cubicBezTo>
                <a:cubicBezTo>
                  <a:pt x="24743" y="9575"/>
                  <a:pt x="24779" y="9573"/>
                  <a:pt x="24730" y="9575"/>
                </a:cubicBezTo>
                <a:cubicBezTo>
                  <a:pt x="24740" y="9454"/>
                  <a:pt x="24734" y="9315"/>
                  <a:pt x="24854" y="9252"/>
                </a:cubicBezTo>
                <a:cubicBezTo>
                  <a:pt x="24879" y="9244"/>
                  <a:pt x="24904" y="9235"/>
                  <a:pt x="24929" y="9227"/>
                </a:cubicBezTo>
              </a:path>
              <a:path w="4417" h="2035">
                <a:moveTo>
                  <a:pt x="25028" y="9203"/>
                </a:moveTo>
                <a:cubicBezTo>
                  <a:pt x="25003" y="9253"/>
                  <a:pt x="24944" y="9294"/>
                  <a:pt x="24929" y="9351"/>
                </a:cubicBezTo>
                <a:cubicBezTo>
                  <a:pt x="25044" y="9409"/>
                  <a:pt x="25133" y="9441"/>
                  <a:pt x="25202" y="9550"/>
                </a:cubicBezTo>
                <a:cubicBezTo>
                  <a:pt x="25052" y="9652"/>
                  <a:pt x="25067" y="9665"/>
                  <a:pt x="24904" y="9624"/>
                </a:cubicBezTo>
              </a:path>
              <a:path w="4417" h="2035">
                <a:moveTo>
                  <a:pt x="24309" y="7938"/>
                </a:moveTo>
                <a:cubicBezTo>
                  <a:pt x="24598" y="7921"/>
                  <a:pt x="24772" y="8107"/>
                  <a:pt x="24929" y="8359"/>
                </a:cubicBezTo>
                <a:cubicBezTo>
                  <a:pt x="25188" y="8775"/>
                  <a:pt x="25199" y="9179"/>
                  <a:pt x="25152" y="9649"/>
                </a:cubicBezTo>
                <a:cubicBezTo>
                  <a:pt x="25138" y="9788"/>
                  <a:pt x="25142" y="9849"/>
                  <a:pt x="25078" y="9947"/>
                </a:cubicBezTo>
              </a:path>
              <a:path w="4417" h="2035">
                <a:moveTo>
                  <a:pt x="21779" y="8434"/>
                </a:moveTo>
                <a:cubicBezTo>
                  <a:pt x="21895" y="8492"/>
                  <a:pt x="22016" y="8558"/>
                  <a:pt x="22151" y="8607"/>
                </a:cubicBezTo>
                <a:cubicBezTo>
                  <a:pt x="22212" y="8629"/>
                  <a:pt x="22251" y="8627"/>
                  <a:pt x="22299" y="8657"/>
                </a:cubicBezTo>
                <a:cubicBezTo>
                  <a:pt x="22190" y="8693"/>
                  <a:pt x="22098" y="8787"/>
                  <a:pt x="22002" y="8855"/>
                </a:cubicBezTo>
                <a:cubicBezTo>
                  <a:pt x="21930" y="8906"/>
                  <a:pt x="21929" y="8909"/>
                  <a:pt x="21878" y="8954"/>
                </a:cubicBezTo>
                <a:cubicBezTo>
                  <a:pt x="21848" y="8980"/>
                  <a:pt x="21836" y="9004"/>
                  <a:pt x="21828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43720" y="4179960"/>
            <a:ext cx="223560" cy="2761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6247" y="11609"/>
                </a:moveTo>
                <a:cubicBezTo>
                  <a:pt x="16067" y="11632"/>
                  <a:pt x="15783" y="11594"/>
                  <a:pt x="15726" y="11782"/>
                </a:cubicBezTo>
                <a:cubicBezTo>
                  <a:pt x="15700" y="11867"/>
                  <a:pt x="15688" y="11990"/>
                  <a:pt x="15677" y="12080"/>
                </a:cubicBezTo>
                <a:cubicBezTo>
                  <a:pt x="15793" y="12056"/>
                  <a:pt x="15896" y="12010"/>
                  <a:pt x="16024" y="12030"/>
                </a:cubicBezTo>
                <a:cubicBezTo>
                  <a:pt x="16230" y="12062"/>
                  <a:pt x="16255" y="12111"/>
                  <a:pt x="16297" y="12278"/>
                </a:cubicBezTo>
                <a:cubicBezTo>
                  <a:pt x="16163" y="12349"/>
                  <a:pt x="15905" y="12472"/>
                  <a:pt x="15751" y="12353"/>
                </a:cubicBezTo>
                <a:cubicBezTo>
                  <a:pt x="15751" y="12336"/>
                  <a:pt x="15751" y="12320"/>
                  <a:pt x="15751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51000" y="4384800"/>
            <a:ext cx="214200" cy="339480"/>
          </a:xfrm>
          <a:custGeom>
            <a:avLst/>
            <a:gdLst/>
            <a:ahLst/>
            <a:rect l="l" t="t" r="r" b="b"/>
            <a:pathLst>
              <a:path w="596" h="944">
                <a:moveTo>
                  <a:pt x="4068" y="12179"/>
                </a:moveTo>
                <a:cubicBezTo>
                  <a:pt x="3968" y="12199"/>
                  <a:pt x="3874" y="12215"/>
                  <a:pt x="3770" y="12229"/>
                </a:cubicBezTo>
                <a:cubicBezTo>
                  <a:pt x="3590" y="12254"/>
                  <a:pt x="3557" y="12277"/>
                  <a:pt x="3522" y="12452"/>
                </a:cubicBezTo>
                <a:cubicBezTo>
                  <a:pt x="3502" y="12554"/>
                  <a:pt x="3497" y="12625"/>
                  <a:pt x="3497" y="12725"/>
                </a:cubicBezTo>
                <a:cubicBezTo>
                  <a:pt x="3619" y="12725"/>
                  <a:pt x="3698" y="12650"/>
                  <a:pt x="3820" y="12650"/>
                </a:cubicBezTo>
                <a:cubicBezTo>
                  <a:pt x="4001" y="12650"/>
                  <a:pt x="4162" y="12831"/>
                  <a:pt x="4018" y="12998"/>
                </a:cubicBezTo>
                <a:cubicBezTo>
                  <a:pt x="3884" y="13154"/>
                  <a:pt x="3668" y="13106"/>
                  <a:pt x="3497" y="13097"/>
                </a:cubicBezTo>
                <a:cubicBezTo>
                  <a:pt x="3489" y="13097"/>
                  <a:pt x="3481" y="13097"/>
                  <a:pt x="3473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7040" y="4357800"/>
            <a:ext cx="1197000" cy="571320"/>
          </a:xfrm>
          <a:custGeom>
            <a:avLst/>
            <a:gdLst/>
            <a:ahLst/>
            <a:rect l="l" t="t" r="r" b="b"/>
            <a:pathLst>
              <a:path w="3325" h="1588">
                <a:moveTo>
                  <a:pt x="11212" y="12105"/>
                </a:moveTo>
                <a:cubicBezTo>
                  <a:pt x="11222" y="12203"/>
                  <a:pt x="11245" y="12386"/>
                  <a:pt x="11361" y="12427"/>
                </a:cubicBezTo>
                <a:cubicBezTo>
                  <a:pt x="11500" y="12477"/>
                  <a:pt x="11628" y="12367"/>
                  <a:pt x="11733" y="12303"/>
                </a:cubicBezTo>
              </a:path>
              <a:path w="3325" h="1588">
                <a:moveTo>
                  <a:pt x="12774" y="13097"/>
                </a:moveTo>
                <a:cubicBezTo>
                  <a:pt x="12790" y="13302"/>
                  <a:pt x="12777" y="13546"/>
                  <a:pt x="12923" y="13692"/>
                </a:cubicBezTo>
              </a:path>
              <a:path w="3325" h="1588">
                <a:moveTo>
                  <a:pt x="14188" y="12502"/>
                </a:moveTo>
                <a:cubicBezTo>
                  <a:pt x="14362" y="12526"/>
                  <a:pt x="14420" y="12534"/>
                  <a:pt x="14536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8800" y="4224240"/>
            <a:ext cx="839520" cy="820800"/>
          </a:xfrm>
          <a:custGeom>
            <a:avLst/>
            <a:gdLst/>
            <a:ahLst/>
            <a:rect l="l" t="t" r="r" b="b"/>
            <a:pathLst>
              <a:path w="2332" h="2283">
                <a:moveTo>
                  <a:pt x="3125" y="13767"/>
                </a:moveTo>
                <a:cubicBezTo>
                  <a:pt x="3591" y="13860"/>
                  <a:pt x="4002" y="13938"/>
                  <a:pt x="4415" y="13618"/>
                </a:cubicBezTo>
                <a:cubicBezTo>
                  <a:pt x="4730" y="13374"/>
                  <a:pt x="5037" y="12734"/>
                  <a:pt x="4911" y="12328"/>
                </a:cubicBezTo>
                <a:cubicBezTo>
                  <a:pt x="4726" y="11729"/>
                  <a:pt x="3929" y="11658"/>
                  <a:pt x="3423" y="11757"/>
                </a:cubicBezTo>
                <a:cubicBezTo>
                  <a:pt x="2506" y="11936"/>
                  <a:pt x="2435" y="12798"/>
                  <a:pt x="2729" y="13568"/>
                </a:cubicBezTo>
                <a:cubicBezTo>
                  <a:pt x="3014" y="13958"/>
                  <a:pt x="3126" y="14085"/>
                  <a:pt x="3522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3040" y="4348080"/>
            <a:ext cx="973080" cy="760320"/>
          </a:xfrm>
          <a:custGeom>
            <a:avLst/>
            <a:gdLst/>
            <a:ahLst/>
            <a:rect l="l" t="t" r="r" b="b"/>
            <a:pathLst>
              <a:path w="2705" h="2109">
                <a:moveTo>
                  <a:pt x="8434" y="12353"/>
                </a:moveTo>
                <a:cubicBezTo>
                  <a:pt x="8376" y="12260"/>
                  <a:pt x="8325" y="12068"/>
                  <a:pt x="8186" y="12080"/>
                </a:cubicBezTo>
                <a:cubicBezTo>
                  <a:pt x="7921" y="12103"/>
                  <a:pt x="7847" y="12404"/>
                  <a:pt x="7838" y="12601"/>
                </a:cubicBezTo>
                <a:cubicBezTo>
                  <a:pt x="8100" y="12636"/>
                  <a:pt x="8235" y="12546"/>
                  <a:pt x="8384" y="12303"/>
                </a:cubicBezTo>
                <a:cubicBezTo>
                  <a:pt x="8384" y="12295"/>
                  <a:pt x="8384" y="12286"/>
                  <a:pt x="8384" y="12278"/>
                </a:cubicBezTo>
                <a:cubicBezTo>
                  <a:pt x="8384" y="12471"/>
                  <a:pt x="8400" y="12658"/>
                  <a:pt x="8409" y="12849"/>
                </a:cubicBezTo>
                <a:cubicBezTo>
                  <a:pt x="8411" y="12900"/>
                  <a:pt x="8391" y="13137"/>
                  <a:pt x="8409" y="13122"/>
                </a:cubicBezTo>
                <a:cubicBezTo>
                  <a:pt x="8442" y="13089"/>
                  <a:pt x="8475" y="13055"/>
                  <a:pt x="8508" y="13022"/>
                </a:cubicBezTo>
              </a:path>
              <a:path w="2705" h="2109">
                <a:moveTo>
                  <a:pt x="8235" y="13618"/>
                </a:moveTo>
                <a:cubicBezTo>
                  <a:pt x="8324" y="13588"/>
                  <a:pt x="8203" y="13494"/>
                  <a:pt x="8161" y="13469"/>
                </a:cubicBezTo>
                <a:cubicBezTo>
                  <a:pt x="7972" y="13357"/>
                  <a:pt x="7913" y="13662"/>
                  <a:pt x="7913" y="13767"/>
                </a:cubicBezTo>
                <a:cubicBezTo>
                  <a:pt x="8069" y="13776"/>
                  <a:pt x="8100" y="13736"/>
                  <a:pt x="8210" y="13667"/>
                </a:cubicBezTo>
                <a:cubicBezTo>
                  <a:pt x="8218" y="13667"/>
                  <a:pt x="8227" y="13667"/>
                  <a:pt x="8235" y="13667"/>
                </a:cubicBezTo>
                <a:cubicBezTo>
                  <a:pt x="8293" y="13820"/>
                  <a:pt x="8402" y="13983"/>
                  <a:pt x="8210" y="14114"/>
                </a:cubicBezTo>
                <a:cubicBezTo>
                  <a:pt x="8041" y="14229"/>
                  <a:pt x="7961" y="14189"/>
                  <a:pt x="7888" y="14089"/>
                </a:cubicBezTo>
              </a:path>
              <a:path w="2705" h="2109">
                <a:moveTo>
                  <a:pt x="8434" y="13593"/>
                </a:moveTo>
                <a:cubicBezTo>
                  <a:pt x="8450" y="13625"/>
                  <a:pt x="8539" y="13902"/>
                  <a:pt x="8632" y="13816"/>
                </a:cubicBezTo>
                <a:cubicBezTo>
                  <a:pt x="8656" y="13794"/>
                  <a:pt x="8696" y="13672"/>
                  <a:pt x="8706" y="13643"/>
                </a:cubicBezTo>
                <a:cubicBezTo>
                  <a:pt x="8753" y="13804"/>
                  <a:pt x="8784" y="13786"/>
                  <a:pt x="8930" y="13767"/>
                </a:cubicBezTo>
              </a:path>
              <a:path w="2705" h="2109">
                <a:moveTo>
                  <a:pt x="8979" y="13568"/>
                </a:moveTo>
                <a:cubicBezTo>
                  <a:pt x="8974" y="13583"/>
                  <a:pt x="8882" y="13928"/>
                  <a:pt x="9029" y="13767"/>
                </a:cubicBezTo>
                <a:cubicBezTo>
                  <a:pt x="9046" y="13734"/>
                  <a:pt x="9062" y="13700"/>
                  <a:pt x="9079" y="13667"/>
                </a:cubicBezTo>
                <a:cubicBezTo>
                  <a:pt x="9087" y="13659"/>
                  <a:pt x="9095" y="13651"/>
                  <a:pt x="9103" y="13643"/>
                </a:cubicBezTo>
                <a:cubicBezTo>
                  <a:pt x="9125" y="13752"/>
                  <a:pt x="9209" y="13773"/>
                  <a:pt x="9302" y="13816"/>
                </a:cubicBezTo>
                <a:cubicBezTo>
                  <a:pt x="9342" y="13736"/>
                  <a:pt x="9371" y="13730"/>
                  <a:pt x="9376" y="13717"/>
                </a:cubicBezTo>
                <a:cubicBezTo>
                  <a:pt x="9433" y="13580"/>
                  <a:pt x="9475" y="13591"/>
                  <a:pt x="9599" y="13543"/>
                </a:cubicBezTo>
              </a:path>
              <a:path w="2705" h="2109">
                <a:moveTo>
                  <a:pt x="9947" y="13593"/>
                </a:moveTo>
                <a:cubicBezTo>
                  <a:pt x="9813" y="13580"/>
                  <a:pt x="9688" y="13551"/>
                  <a:pt x="9624" y="13717"/>
                </a:cubicBezTo>
                <a:cubicBezTo>
                  <a:pt x="9624" y="13750"/>
                  <a:pt x="9624" y="13783"/>
                  <a:pt x="9624" y="13816"/>
                </a:cubicBezTo>
                <a:cubicBezTo>
                  <a:pt x="9856" y="13889"/>
                  <a:pt x="9909" y="13789"/>
                  <a:pt x="9872" y="13543"/>
                </a:cubicBezTo>
                <a:cubicBezTo>
                  <a:pt x="9833" y="13387"/>
                  <a:pt x="9817" y="13364"/>
                  <a:pt x="9823" y="13271"/>
                </a:cubicBezTo>
                <a:cubicBezTo>
                  <a:pt x="9873" y="13438"/>
                  <a:pt x="9935" y="13593"/>
                  <a:pt x="10021" y="13742"/>
                </a:cubicBezTo>
              </a:path>
              <a:path w="2705" h="2109">
                <a:moveTo>
                  <a:pt x="10244" y="13469"/>
                </a:moveTo>
                <a:cubicBezTo>
                  <a:pt x="10176" y="13564"/>
                  <a:pt x="10354" y="13588"/>
                  <a:pt x="10418" y="13618"/>
                </a:cubicBezTo>
                <a:cubicBezTo>
                  <a:pt x="10451" y="13634"/>
                  <a:pt x="10484" y="13651"/>
                  <a:pt x="10517" y="13667"/>
                </a:cubicBezTo>
                <a:cubicBezTo>
                  <a:pt x="10364" y="13821"/>
                  <a:pt x="10270" y="13780"/>
                  <a:pt x="10120" y="13667"/>
                </a:cubicBezTo>
              </a:path>
              <a:path w="2705" h="2109">
                <a:moveTo>
                  <a:pt x="9674" y="12551"/>
                </a:moveTo>
                <a:cubicBezTo>
                  <a:pt x="9849" y="12542"/>
                  <a:pt x="10019" y="12526"/>
                  <a:pt x="10195" y="12526"/>
                </a:cubicBezTo>
                <a:cubicBezTo>
                  <a:pt x="10203" y="12526"/>
                  <a:pt x="10212" y="12526"/>
                  <a:pt x="10220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62240" y="4330800"/>
            <a:ext cx="1171800" cy="635040"/>
          </a:xfrm>
          <a:custGeom>
            <a:avLst/>
            <a:gdLst/>
            <a:ahLst/>
            <a:rect l="l" t="t" r="r" b="b"/>
            <a:pathLst>
              <a:path w="3251" h="1762">
                <a:moveTo>
                  <a:pt x="11584" y="12030"/>
                </a:moveTo>
                <a:cubicBezTo>
                  <a:pt x="11639" y="12316"/>
                  <a:pt x="11664" y="12616"/>
                  <a:pt x="11733" y="12898"/>
                </a:cubicBezTo>
                <a:cubicBezTo>
                  <a:pt x="11741" y="12915"/>
                  <a:pt x="11749" y="12931"/>
                  <a:pt x="11757" y="12948"/>
                </a:cubicBezTo>
              </a:path>
              <a:path w="3251" h="1762">
                <a:moveTo>
                  <a:pt x="11460" y="13196"/>
                </a:moveTo>
                <a:cubicBezTo>
                  <a:pt x="11468" y="13204"/>
                  <a:pt x="11477" y="13213"/>
                  <a:pt x="11485" y="13221"/>
                </a:cubicBezTo>
                <a:cubicBezTo>
                  <a:pt x="11463" y="13109"/>
                  <a:pt x="11365" y="13076"/>
                  <a:pt x="11311" y="13221"/>
                </a:cubicBezTo>
                <a:cubicBezTo>
                  <a:pt x="11191" y="13545"/>
                  <a:pt x="11387" y="13605"/>
                  <a:pt x="11609" y="13519"/>
                </a:cubicBezTo>
              </a:path>
              <a:path w="3251" h="1762">
                <a:moveTo>
                  <a:pt x="11757" y="13246"/>
                </a:moveTo>
                <a:cubicBezTo>
                  <a:pt x="11872" y="13269"/>
                  <a:pt x="11905" y="13278"/>
                  <a:pt x="11981" y="13271"/>
                </a:cubicBezTo>
                <a:cubicBezTo>
                  <a:pt x="11908" y="13198"/>
                  <a:pt x="11683" y="13051"/>
                  <a:pt x="11683" y="13295"/>
                </a:cubicBezTo>
                <a:cubicBezTo>
                  <a:pt x="11683" y="13558"/>
                  <a:pt x="11952" y="13606"/>
                  <a:pt x="12105" y="13444"/>
                </a:cubicBezTo>
                <a:cubicBezTo>
                  <a:pt x="12216" y="13326"/>
                  <a:pt x="12204" y="13244"/>
                  <a:pt x="12204" y="13469"/>
                </a:cubicBezTo>
                <a:cubicBezTo>
                  <a:pt x="12204" y="13616"/>
                  <a:pt x="12219" y="13571"/>
                  <a:pt x="12179" y="13519"/>
                </a:cubicBezTo>
                <a:cubicBezTo>
                  <a:pt x="12179" y="13395"/>
                  <a:pt x="12179" y="13353"/>
                  <a:pt x="12254" y="13295"/>
                </a:cubicBezTo>
                <a:cubicBezTo>
                  <a:pt x="12425" y="13296"/>
                  <a:pt x="12495" y="13394"/>
                  <a:pt x="12551" y="13568"/>
                </a:cubicBezTo>
                <a:cubicBezTo>
                  <a:pt x="12551" y="13593"/>
                  <a:pt x="12551" y="13601"/>
                  <a:pt x="12551" y="13568"/>
                </a:cubicBezTo>
              </a:path>
              <a:path w="3251" h="1762">
                <a:moveTo>
                  <a:pt x="12650" y="13395"/>
                </a:moveTo>
                <a:cubicBezTo>
                  <a:pt x="12809" y="13395"/>
                  <a:pt x="13252" y="13449"/>
                  <a:pt x="13271" y="13345"/>
                </a:cubicBezTo>
                <a:cubicBezTo>
                  <a:pt x="13106" y="13345"/>
                  <a:pt x="13012" y="13541"/>
                  <a:pt x="13221" y="13643"/>
                </a:cubicBezTo>
                <a:cubicBezTo>
                  <a:pt x="13367" y="13714"/>
                  <a:pt x="13526" y="13450"/>
                  <a:pt x="13568" y="13469"/>
                </a:cubicBezTo>
                <a:cubicBezTo>
                  <a:pt x="13568" y="13519"/>
                  <a:pt x="13568" y="13535"/>
                  <a:pt x="13568" y="13568"/>
                </a:cubicBezTo>
                <a:cubicBezTo>
                  <a:pt x="13591" y="13382"/>
                  <a:pt x="13624" y="13344"/>
                  <a:pt x="13791" y="13271"/>
                </a:cubicBezTo>
                <a:cubicBezTo>
                  <a:pt x="13808" y="13263"/>
                  <a:pt x="13824" y="13254"/>
                  <a:pt x="13841" y="13246"/>
                </a:cubicBezTo>
              </a:path>
              <a:path w="3251" h="1762">
                <a:moveTo>
                  <a:pt x="14039" y="13395"/>
                </a:moveTo>
                <a:cubicBezTo>
                  <a:pt x="13950" y="13395"/>
                  <a:pt x="13924" y="13388"/>
                  <a:pt x="13891" y="13444"/>
                </a:cubicBezTo>
                <a:cubicBezTo>
                  <a:pt x="13988" y="13550"/>
                  <a:pt x="14135" y="13622"/>
                  <a:pt x="14188" y="13742"/>
                </a:cubicBezTo>
                <a:cubicBezTo>
                  <a:pt x="13944" y="13790"/>
                  <a:pt x="13952" y="13799"/>
                  <a:pt x="13767" y="13643"/>
                </a:cubicBezTo>
              </a:path>
              <a:path w="3251" h="1762">
                <a:moveTo>
                  <a:pt x="14238" y="12229"/>
                </a:moveTo>
                <a:cubicBezTo>
                  <a:pt x="14320" y="12238"/>
                  <a:pt x="14467" y="12224"/>
                  <a:pt x="14536" y="12254"/>
                </a:cubicBezTo>
                <a:cubicBezTo>
                  <a:pt x="14536" y="12262"/>
                  <a:pt x="14536" y="12270"/>
                  <a:pt x="14536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Surv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5 minutes to survey the people in our class asking them the two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you collected to create a frequency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 Frequency Table B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3:03:24Z</dcterms:created>
  <dc:creator>Brian McGrath</dc:creator>
  <dc:description/>
  <dc:language>en-US</dc:language>
  <cp:lastModifiedBy>demcgra</cp:lastModifiedBy>
  <dcterms:modified xsi:type="dcterms:W3CDTF">2012-03-06T20:20:55Z</dcterms:modified>
  <cp:revision>3</cp:revision>
  <dc:subject/>
  <dc:title>Warm-up:  MSA Review Day 17</dc:title>
</cp:coreProperties>
</file>